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8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599988" cy="864076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Рисунок 9" descr=""/>
          <p:cNvPicPr/>
          <p:nvPr/>
        </p:nvPicPr>
        <p:blipFill>
          <a:blip r:embed="rId2"/>
          <a:srcRect l="2083" t="12028" r="15209" b="51235"/>
          <a:stretch/>
        </p:blipFill>
        <p:spPr>
          <a:xfrm>
            <a:off x="0" y="-4680"/>
            <a:ext cx="12600000" cy="26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11866680" y="8258040"/>
            <a:ext cx="3873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ts val="1437"/>
              </a:lnSpc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fld id="{ACAE812C-4C2D-4106-842C-04A8E2390694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300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23328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1928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2860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5"/>
          <p:cNvSpPr/>
          <p:nvPr/>
        </p:nvSpPr>
        <p:spPr>
          <a:xfrm>
            <a:off x="0" y="2058840"/>
            <a:ext cx="12600000" cy="413568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fo@corpmsp.ru" TargetMode="External"/><Relationship Id="rId2" Type="http://schemas.openxmlformats.org/officeDocument/2006/relationships/hyperlink" Target="mailto:info@corpmsp.ru" TargetMode="External"/><Relationship Id="rId3" Type="http://schemas.openxmlformats.org/officeDocument/2006/relationships/hyperlink" Target="mailto:info@corpmsp.ru" TargetMode="External"/><Relationship Id="rId4" Type="http://schemas.openxmlformats.org/officeDocument/2006/relationships/hyperlink" Target="mailto:info@corpmsp.ru" TargetMode="External"/><Relationship Id="rId5" Type="http://schemas.openxmlformats.org/officeDocument/2006/relationships/hyperlink" Target="mailto:info@corpmsp.ru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00320" y="3243240"/>
            <a:ext cx="9999360" cy="2154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4400" spc="-1" strike="noStrike">
                <a:solidFill>
                  <a:srgbClr val="1f4e79"/>
                </a:solidFill>
                <a:latin typeface="Calibri"/>
              </a:rPr>
              <a:t>Финансовая поддержка субъектов МС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Заголовок 1"/>
          <p:cNvSpPr/>
          <p:nvPr/>
        </p:nvSpPr>
        <p:spPr>
          <a:xfrm>
            <a:off x="1300320" y="7169040"/>
            <a:ext cx="9999360" cy="527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062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Calibri"/>
              </a:rPr>
              <a:t>Москва,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3149640" y="0"/>
            <a:ext cx="945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ложение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письму АО «Корпорация «МСП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 от 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86040" y="2058840"/>
            <a:ext cx="8827920" cy="41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Программа стимулирования кредитования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субъектов малого и среднего предпринимательств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«ПРОГРАММА 6,5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7240" y="151920"/>
            <a:ext cx="859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Условия Программы 6,5 % и уполномоченные бан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0"/>
          <p:cNvSpPr/>
          <p:nvPr/>
        </p:nvSpPr>
        <p:spPr>
          <a:xfrm>
            <a:off x="369720" y="1943280"/>
            <a:ext cx="1188432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нтная ставка 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1 %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убъектов малого предпринимательства 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 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ля субъектов среднего предприним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ок льготного фондирован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 3 л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рок кредита может превышать срок льготного фондирова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ритетных отрасл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льское хозяйство/ предоставление услуг в эт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батывающее производство, в т.ч. производство пищевых продуктов, первичная и последующая переработка с/х проду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дство и распределение электроэнергии, газа и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ительство, транспорт и связ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утренний тур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отехнологичные про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мер кредита: о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50 млн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млрд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бщий кредитный лимит на заемщика - д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4 млрд рубле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Текст 2"/>
          <p:cNvSpPr/>
          <p:nvPr/>
        </p:nvSpPr>
        <p:spPr>
          <a:xfrm>
            <a:off x="369720" y="101916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ючевые условия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32"/>
          <p:cNvSpPr/>
          <p:nvPr/>
        </p:nvSpPr>
        <p:spPr>
          <a:xfrm>
            <a:off x="363600" y="179388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Текст 2"/>
          <p:cNvSpPr/>
          <p:nvPr/>
        </p:nvSpPr>
        <p:spPr>
          <a:xfrm>
            <a:off x="369720" y="530388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олномоченные банки Корпо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34"/>
          <p:cNvSpPr/>
          <p:nvPr/>
        </p:nvSpPr>
        <p:spPr>
          <a:xfrm>
            <a:off x="363600" y="607860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Группа 47"/>
          <p:cNvGrpSpPr/>
          <p:nvPr/>
        </p:nvGrpSpPr>
        <p:grpSpPr>
          <a:xfrm>
            <a:off x="660240" y="6111720"/>
            <a:ext cx="11417400" cy="1935360"/>
            <a:chOff x="660240" y="6111720"/>
            <a:chExt cx="11417400" cy="1935360"/>
          </a:xfrm>
        </p:grpSpPr>
        <p:pic>
          <p:nvPicPr>
            <p:cNvPr id="162" name="Рисунок 35" descr=""/>
            <p:cNvPicPr/>
            <p:nvPr/>
          </p:nvPicPr>
          <p:blipFill>
            <a:blip r:embed="rId1"/>
            <a:stretch/>
          </p:blipFill>
          <p:spPr>
            <a:xfrm>
              <a:off x="2983320" y="6378120"/>
              <a:ext cx="1449720" cy="58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Рисунок 36" descr=""/>
            <p:cNvPicPr/>
            <p:nvPr/>
          </p:nvPicPr>
          <p:blipFill>
            <a:blip r:embed="rId2"/>
            <a:stretch/>
          </p:blipFill>
          <p:spPr>
            <a:xfrm>
              <a:off x="4929840" y="7238160"/>
              <a:ext cx="138420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Рисунок 37" descr=""/>
            <p:cNvPicPr/>
            <p:nvPr/>
          </p:nvPicPr>
          <p:blipFill>
            <a:blip r:embed="rId3"/>
            <a:stretch/>
          </p:blipFill>
          <p:spPr>
            <a:xfrm>
              <a:off x="7658280" y="7101720"/>
              <a:ext cx="1889640" cy="94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Рисунок 38" descr=""/>
            <p:cNvPicPr/>
            <p:nvPr/>
          </p:nvPicPr>
          <p:blipFill>
            <a:blip r:embed="rId4"/>
            <a:srcRect l="0" t="19667" r="0" b="30284"/>
            <a:stretch/>
          </p:blipFill>
          <p:spPr>
            <a:xfrm>
              <a:off x="7151400" y="6111720"/>
              <a:ext cx="2018520" cy="67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Рисунок 39" descr=""/>
            <p:cNvPicPr/>
            <p:nvPr/>
          </p:nvPicPr>
          <p:blipFill>
            <a:blip r:embed="rId5"/>
            <a:stretch/>
          </p:blipFill>
          <p:spPr>
            <a:xfrm>
              <a:off x="10230840" y="7351200"/>
              <a:ext cx="16452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Рисунок 40" descr=""/>
            <p:cNvPicPr/>
            <p:nvPr/>
          </p:nvPicPr>
          <p:blipFill>
            <a:blip r:embed="rId6"/>
            <a:stretch/>
          </p:blipFill>
          <p:spPr>
            <a:xfrm>
              <a:off x="719280" y="6992280"/>
              <a:ext cx="1405080" cy="70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Рисунок 41" descr=""/>
            <p:cNvPicPr/>
            <p:nvPr/>
          </p:nvPicPr>
          <p:blipFill>
            <a:blip r:embed="rId7"/>
            <a:stretch/>
          </p:blipFill>
          <p:spPr>
            <a:xfrm>
              <a:off x="2883960" y="7183800"/>
              <a:ext cx="1706400" cy="3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Рисунок 42" descr=""/>
            <p:cNvPicPr/>
            <p:nvPr/>
          </p:nvPicPr>
          <p:blipFill>
            <a:blip r:embed="rId8"/>
            <a:stretch/>
          </p:blipFill>
          <p:spPr>
            <a:xfrm>
              <a:off x="6242400" y="6742440"/>
              <a:ext cx="2102760" cy="5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Рисунок 43" descr=""/>
            <p:cNvPicPr/>
            <p:nvPr/>
          </p:nvPicPr>
          <p:blipFill>
            <a:blip r:embed="rId9"/>
            <a:stretch/>
          </p:blipFill>
          <p:spPr>
            <a:xfrm>
              <a:off x="11198880" y="6240240"/>
              <a:ext cx="878760" cy="87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Рисунок 44" descr=""/>
            <p:cNvPicPr/>
            <p:nvPr/>
          </p:nvPicPr>
          <p:blipFill>
            <a:blip r:embed="rId10"/>
            <a:srcRect l="0" t="23526" r="0" b="24295"/>
            <a:stretch/>
          </p:blipFill>
          <p:spPr>
            <a:xfrm>
              <a:off x="4614120" y="6275520"/>
              <a:ext cx="146268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Рисунок 45" descr=""/>
            <p:cNvPicPr/>
            <p:nvPr/>
          </p:nvPicPr>
          <p:blipFill>
            <a:blip r:embed="rId11"/>
            <a:stretch/>
          </p:blipFill>
          <p:spPr>
            <a:xfrm>
              <a:off x="8643240" y="6850800"/>
              <a:ext cx="20433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" descr="F:\logo-sberbank.png"/>
            <p:cNvPicPr/>
            <p:nvPr/>
          </p:nvPicPr>
          <p:blipFill>
            <a:blip r:embed="rId12"/>
            <a:stretch/>
          </p:blipFill>
          <p:spPr>
            <a:xfrm>
              <a:off x="660240" y="6290640"/>
              <a:ext cx="1629000" cy="407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68680" y="151920"/>
            <a:ext cx="86853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условиям кредитования конечных заемщи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51000" y="1231920"/>
          <a:ext cx="11903040" cy="6786720"/>
        </p:xfrm>
        <a:graphic>
          <a:graphicData uri="http://schemas.openxmlformats.org/drawingml/2006/table">
            <a:tbl>
              <a:tblPr/>
              <a:tblGrid>
                <a:gridCol w="2212920"/>
                <a:gridCol w="9690120"/>
              </a:tblGrid>
              <a:tr h="91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Целевое использование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вестиционные цели - финансирование мероприятий по приобретению основных средств, модернизации и реконструкции производства, запуску новых проектов/производств. Допускается финансирование текущих расходов, связанных с реализацией инвестиционного проекта (не более 30% от совокупной величины инвестиционных креди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олнение оборот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азмер кред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мен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млн. рубле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и не бол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ий размер кредитных средств, привлеченных одним конечным заемщиком в рамках Программы не может превышать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орма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роки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 усмотрение Уполномоченного банка (кредит может быть предоставлен на срок более 3 лет, при этом срок льготного фондирования по Программе не должен превышать 3 го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оля финансирования инвестиционного проекта за счет заем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более  80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 ограничени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для прочих инвестиционных 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3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ребования к инвестиционным проек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 приведенная стоимость инвестиционного проекта является положитель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утренняя норма рентабельности превышает выбранную ставку дисконт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прочих инвестиционных проектов требования не устанавлива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51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оцентные ставки по креди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ая ставка для заемщиков субъек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лого бизнес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11%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среднего бизнеса 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выше уровня процентной ставки, установленной Банком России по кредитам Банка России (6,5%), обеспеченным поручительствами Корпорации, предоставляемым уполномоченным банкам, увеличенной на размер комиссионного вознаграждения Корпорации (0,5%) при предоставлении поручительства Корпорации за уполномоченные банки перед Банком России, плюс 3,0 % годовых (при условии, что конечным заемщиком является субъект среднего предпринимательства) или 4,0 % годовых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ри условии, что конечным заемщиком является субъект малого предпринимательства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9480" y="151920"/>
            <a:ext cx="8674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конечным заемщикам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351000" y="7885080"/>
            <a:ext cx="1149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     Уполномоченные банки вправе установить дополнительные критерии приемлемости инвестиционных проектов, в том числе дополнительные требования к конечным заемщик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   Перечень утверждается Министерством финансов Российской Федера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* 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Показатель рассчитывается в соответствии с Методикой, являющейся приложением к Регламенту взаимодействия Корпорации и банков при реализации Программы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51000" y="1231920"/>
          <a:ext cx="11903040" cy="6621480"/>
        </p:xfrm>
        <a:graphic>
          <a:graphicData uri="http://schemas.openxmlformats.org/drawingml/2006/table">
            <a:tbl>
              <a:tblPr/>
              <a:tblGrid>
                <a:gridCol w="2224080"/>
                <a:gridCol w="9678960"/>
              </a:tblGrid>
              <a:tr h="251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еречень допустимых (приоритетных) отраслей экономики по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льское хозяйство, включая производство сельскохозяйственной продукции, а также предоставление услуг в этой отрасли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батывающее производство, в том числе производство пищевых продуктов, первичная и последующая (промышленная) переработка сельскохозяйственной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изводство и распределение электроэнергии, газа и в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анспорт и связ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ристская деятельность и деятельность в области туристской индустрии в целях развития внутреннего туриз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сли экономики, в которых реализуются приоритетные направления развития науки, технологий и техники в Российской Федерации, а также критические технологии Российской Федерации, перечень которых утвержден Указом Президента Российской Федерации от 07.07.2011 № 899 «Об утверждении приоритетных направлений развития науки, технологий и техники в Российской Федерации и перечня критических технологий Российской Федерац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85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е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– субъект МСП, соответствующий требованиям Федерального закона от 24 июля 2007 года № 209-ФЗ «О развитии малого и среднего предпринимательства в Российской Федерации», с учетом ограничений, установленных частями 3 и 4 статьи 14 Закона о развитии МС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в статусе юридического л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на территории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ридическое лицо, являющееся контролирующим лицом конечного заемщика, не должно быть зарегистрировано в государстве или на территории, которые предоставляют льготный налоговый режим налогообложения и (или) не предусматривают раскрытие и предоставление информации при проведении финансовых операций (офшорные зоны)**. Данное требование распространяется на всю цепочку собствен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просроченной (неурегулированной) задолженности по налогам, сборам и иным обязательным платежам в бюджеты бюджетной системы Российской Федерации и в государственные внебюджет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возбужденного производства по делу о несостоятельности (банкротстве) в соответствии с законодательством Российской Федерации о несостоятельности (банкротств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й финансовый результат по данным бухгалтерской отчетности за предыдущий календарный год (не применяется к специально созданным проектным компаниям (SPV)); Вновь созданное юридическое лицо представляет промежуточную или годовую бухгалтерскую отчетность за первый отчетный период, который определяется в соответствии с статьей 15 Федерального закона от 06.12.2011 № 402-ФЗ «О бухгалтерском учет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е чистые активы (не применяется к специально созданным проектным компаниям (SP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азатель «Общий долг / Операционная прибыль» юридического лица (или группы компаний, если рассматриваемое юридическое лицо входит в группу компаний) не превышает 5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59320" y="151920"/>
            <a:ext cx="86947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Порядок получения Уполномоченным банком кредитов Банка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32"/>
          <p:cNvSpPr/>
          <p:nvPr/>
        </p:nvSpPr>
        <p:spPr>
          <a:xfrm>
            <a:off x="6327720" y="1541520"/>
            <a:ext cx="0" cy="6330960"/>
          </a:xfrm>
          <a:prstGeom prst="line">
            <a:avLst/>
          </a:prstGeom>
          <a:ln w="9360">
            <a:solidFill>
              <a:srgbClr val="00a1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Группа 3"/>
          <p:cNvGrpSpPr/>
          <p:nvPr/>
        </p:nvGrpSpPr>
        <p:grpSpPr>
          <a:xfrm>
            <a:off x="6811920" y="1481040"/>
            <a:ext cx="5788080" cy="6357960"/>
            <a:chOff x="6811920" y="1481040"/>
            <a:chExt cx="5788080" cy="6357960"/>
          </a:xfrm>
        </p:grpSpPr>
        <p:sp>
          <p:nvSpPr>
            <p:cNvPr id="182" name="TextBox 17"/>
            <p:cNvSpPr/>
            <p:nvPr/>
          </p:nvSpPr>
          <p:spPr>
            <a:xfrm>
              <a:off x="6835680" y="1481040"/>
              <a:ext cx="5764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предоставляет кредиты Конечным заемщикам с учетом требований Программы. Уполномоченный Банк самостоятельно осуществляют проверку соответствия Проектов и Конечных заемщиков требованиям Программы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8"/>
            <p:cNvSpPr/>
            <p:nvPr/>
          </p:nvSpPr>
          <p:spPr>
            <a:xfrm>
              <a:off x="6835680" y="2186640"/>
              <a:ext cx="5699160" cy="12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предоставивший один либо несколько кредитов Конечным заемщикам, одновременно обращается в Банк России и Корпорацию с заявлениями на получение кредита Банка России и Поручительства Корпорации (с приложением необходимого комплекта документов)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0000"/>
                  </a:solidFill>
                  <a:latin typeface="Arial"/>
                </a:rPr>
                <a:t>Механизм получения кредитов Банка России аналогичен порядку, предусмотренному в Положении Банка России № 312-П для получения кредитов, обеспеченных поручительствами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оугольник 19"/>
            <p:cNvSpPr/>
            <p:nvPr/>
          </p:nvSpPr>
          <p:spPr>
            <a:xfrm>
              <a:off x="6835680" y="3630960"/>
              <a:ext cx="5620680" cy="16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орпорация осуществляет проверку документов и не позднее 4-го рабочего дня с даты фактического поступления Заявления в Корпорацию уведомляет Уполномоченный банк об одном из следующих решений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 предоставлении Поручительства и направлении в Банк России подписанных со стороны Корпорации договоров поручительства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б отказе в предоставлении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ополнительно Корпорация направляет в Уполномоченный банк уведомление о размере вознаграждения, необходимого к уплате Банком Корпорации за предоставленное Поручительство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Прямоугольник 20"/>
            <p:cNvSpPr/>
            <p:nvPr/>
          </p:nvSpPr>
          <p:spPr>
            <a:xfrm>
              <a:off x="6811920" y="6150240"/>
              <a:ext cx="56170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Банк России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в случае принятия Корпорацией положительного решения о предоставлении Поручительства, предоставляет кредит Уполномоченному банку в сроки, указанные в Заявлении на предоставление кредита (в Заявлении должна быть указана дата предоставления кредита Банка России, наступающая не раньше, чем через 5 рабочих и позднее, чем через 10 рабочих дней с даты фактического поступления Заявления в Корпорацию)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Прямоугольник 28"/>
            <p:cNvSpPr/>
            <p:nvPr/>
          </p:nvSpPr>
          <p:spPr>
            <a:xfrm>
              <a:off x="6811920" y="7410240"/>
              <a:ext cx="5724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в течение 3-х рабочих дней с даты получения уведомления о размере вознаграждения осуществляет оплату вознаграждения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Прямоугольник 33"/>
            <p:cNvSpPr/>
            <p:nvPr/>
          </p:nvSpPr>
          <p:spPr>
            <a:xfrm>
              <a:off x="6833520" y="5444640"/>
              <a:ext cx="5620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Корпорация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в случае принятия положительного решения о предоставлении Поручительства направляет в Банк России подписанные со стороны Корпорации договоры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Скругленный прямоугольник 73"/>
          <p:cNvSpPr/>
          <p:nvPr/>
        </p:nvSpPr>
        <p:spPr>
          <a:xfrm>
            <a:off x="2579760" y="4070520"/>
            <a:ext cx="2604960" cy="904680"/>
          </a:xfrm>
          <a:prstGeom prst="roundRect">
            <a:avLst>
              <a:gd name="adj" fmla="val 6509"/>
            </a:avLst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9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олномоченный ба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Группа 75"/>
          <p:cNvGrpSpPr/>
          <p:nvPr/>
        </p:nvGrpSpPr>
        <p:grpSpPr>
          <a:xfrm>
            <a:off x="2460600" y="2276640"/>
            <a:ext cx="2681280" cy="726840"/>
            <a:chOff x="2460600" y="2276640"/>
            <a:chExt cx="2681280" cy="726840"/>
          </a:xfrm>
        </p:grpSpPr>
        <p:pic>
          <p:nvPicPr>
            <p:cNvPr id="190" name="Рисунок 76" descr=""/>
            <p:cNvPicPr/>
            <p:nvPr/>
          </p:nvPicPr>
          <p:blipFill>
            <a:blip r:embed="rId1"/>
            <a:srcRect l="2085" t="12027" r="15212" b="51243"/>
            <a:stretch/>
          </p:blipFill>
          <p:spPr>
            <a:xfrm>
              <a:off x="2499480" y="2314440"/>
              <a:ext cx="26064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Скругленный прямоугольник 77"/>
            <p:cNvSpPr/>
            <p:nvPr/>
          </p:nvSpPr>
          <p:spPr>
            <a:xfrm>
              <a:off x="2460600" y="2276640"/>
              <a:ext cx="2681280" cy="726840"/>
            </a:xfrm>
            <a:prstGeom prst="roundRect">
              <a:avLst>
                <a:gd name="adj" fmla="val 6509"/>
              </a:avLst>
            </a:prstGeom>
            <a:noFill/>
            <a:ln w="19080">
              <a:solidFill>
                <a:srgbClr val="1f4e7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Группа 103"/>
          <p:cNvGrpSpPr/>
          <p:nvPr/>
        </p:nvGrpSpPr>
        <p:grpSpPr>
          <a:xfrm>
            <a:off x="428760" y="5229360"/>
            <a:ext cx="2604960" cy="904680"/>
            <a:chOff x="428760" y="5229360"/>
            <a:chExt cx="2604960" cy="904680"/>
          </a:xfrm>
        </p:grpSpPr>
        <p:sp>
          <p:nvSpPr>
            <p:cNvPr id="193" name="Скругленный прямоугольник 92"/>
            <p:cNvSpPr/>
            <p:nvPr/>
          </p:nvSpPr>
          <p:spPr>
            <a:xfrm>
              <a:off x="428760" y="5229360"/>
              <a:ext cx="2604960" cy="904680"/>
            </a:xfrm>
            <a:prstGeom prst="roundRect">
              <a:avLst>
                <a:gd name="adj" fmla="val 6509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018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онечные заемщ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5"/>
            <p:cNvSpPr/>
            <p:nvPr/>
          </p:nvSpPr>
          <p:spPr>
            <a:xfrm>
              <a:off x="558720" y="5385600"/>
              <a:ext cx="673200" cy="59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tabLst>
                  <a:tab algn="l" pos="0"/>
                  <a:tab algn="l" pos="985680"/>
                  <a:tab algn="l" pos="1971720"/>
                  <a:tab algn="l" pos="2957400"/>
                  <a:tab algn="l" pos="3943440"/>
                  <a:tab algn="l" pos="4929120"/>
                  <a:tab algn="l" pos="5915160"/>
                  <a:tab algn="l" pos="6900840"/>
                  <a:tab algn="l" pos="7886880"/>
                  <a:tab algn="l" pos="8872560"/>
                  <a:tab algn="l" pos="9858240"/>
                  <a:tab algn="l" pos="1084428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Группа 128"/>
          <p:cNvGrpSpPr/>
          <p:nvPr/>
        </p:nvGrpSpPr>
        <p:grpSpPr>
          <a:xfrm>
            <a:off x="3757680" y="6041880"/>
            <a:ext cx="1162080" cy="1170000"/>
            <a:chOff x="3757680" y="6041880"/>
            <a:chExt cx="1162080" cy="1170000"/>
          </a:xfrm>
        </p:grpSpPr>
        <p:pic>
          <p:nvPicPr>
            <p:cNvPr id="196" name="Рисунок 54" descr=""/>
            <p:cNvPicPr/>
            <p:nvPr/>
          </p:nvPicPr>
          <p:blipFill>
            <a:blip r:embed="rId2"/>
            <a:stretch/>
          </p:blipFill>
          <p:spPr>
            <a:xfrm>
              <a:off x="3921840" y="6206760"/>
              <a:ext cx="833400" cy="8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Скругленный прямоугольник 97"/>
            <p:cNvSpPr/>
            <p:nvPr/>
          </p:nvSpPr>
          <p:spPr>
            <a:xfrm>
              <a:off x="3757680" y="6041880"/>
              <a:ext cx="1162080" cy="1170000"/>
            </a:xfrm>
            <a:custGeom>
              <a:avLst/>
              <a:gdLst>
                <a:gd name="textAreaLeft" fmla="*/ 21960 w 1162080"/>
                <a:gd name="textAreaRight" fmla="*/ 1140120 w 1162080"/>
                <a:gd name="textAreaTop" fmla="*/ 21960 h 1170000"/>
                <a:gd name="textAreaBottom" fmla="*/ 1148040 h 1170000"/>
              </a:gdLst>
              <a:ahLst/>
              <a:rect l="textAreaLeft" t="textAreaTop" r="textAreaRight" b="textAreaBottom"/>
              <a:pathLst>
                <a:path w="21600" h="21747">
                  <a:moveTo>
                    <a:pt x="1406" y="0"/>
                  </a:moveTo>
                  <a:arcTo wR="1406" hR="1406" stAng="16200000" swAng="-5400000"/>
                  <a:lnTo>
                    <a:pt x="0" y="20341"/>
                  </a:lnTo>
                  <a:arcTo wR="1406" hR="1406" stAng="10800000" swAng="-5400000"/>
                  <a:lnTo>
                    <a:pt x="20194" y="21747"/>
                  </a:lnTo>
                  <a:arcTo wR="1406" hR="1406" stAng="5400000" swAng="-5400000"/>
                  <a:lnTo>
                    <a:pt x="21600" y="1406"/>
                  </a:lnTo>
                  <a:arcTo wR="1406" hR="1406" stAng="0" swAng="-5400000"/>
                  <a:close/>
                </a:path>
              </a:pathLst>
            </a:custGeom>
            <a:noFill/>
            <a:ln w="1908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8" name="Elbow Connector 187"/>
          <p:cNvCxnSpPr>
            <a:stCxn id="191" idx="3"/>
            <a:endCxn id="197" idx="3"/>
          </p:cNvCxnSpPr>
          <p:nvPr/>
        </p:nvCxnSpPr>
        <p:spPr>
          <a:xfrm flipH="1">
            <a:off x="4919040" y="2639520"/>
            <a:ext cx="222840" cy="3986640"/>
          </a:xfrm>
          <a:prstGeom prst="bentConnector3">
            <a:avLst>
              <a:gd name="adj1" fmla="val -102912"/>
            </a:avLst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199" name="Elbow Connector 187"/>
          <p:cNvCxnSpPr>
            <a:stCxn id="188" idx="1"/>
            <a:endCxn id="193" idx="0"/>
          </p:cNvCxnSpPr>
          <p:nvPr/>
        </p:nvCxnSpPr>
        <p:spPr>
          <a:xfrm flipV="1" rot="10800000">
            <a:off x="1729800" y="4521600"/>
            <a:ext cx="849960" cy="707400"/>
          </a:xfrm>
          <a:prstGeom prst="bentConnector2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0" name="Прямая со стрелкой 124"/>
          <p:cNvCxnSpPr/>
          <p:nvPr/>
        </p:nvCxnSpPr>
        <p:spPr>
          <a:xfrm flipV="1">
            <a:off x="4338360" y="5028840"/>
            <a:ext cx="1080" cy="96264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1" name="Прямая со стрелкой 123"/>
          <p:cNvCxnSpPr/>
          <p:nvPr/>
        </p:nvCxnSpPr>
        <p:spPr>
          <a:xfrm flipV="1">
            <a:off x="30999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2" name="Прямая со стрелкой 126"/>
          <p:cNvCxnSpPr/>
          <p:nvPr/>
        </p:nvCxnSpPr>
        <p:spPr>
          <a:xfrm>
            <a:off x="3363480" y="303696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3" name="Прямая со стрелкой 51"/>
          <p:cNvCxnSpPr/>
          <p:nvPr/>
        </p:nvCxnSpPr>
        <p:spPr>
          <a:xfrm flipV="1">
            <a:off x="43383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sp>
        <p:nvSpPr>
          <p:cNvPr id="204" name="Oval 292"/>
          <p:cNvSpPr/>
          <p:nvPr/>
        </p:nvSpPr>
        <p:spPr>
          <a:xfrm>
            <a:off x="4429080" y="568152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92"/>
          <p:cNvSpPr/>
          <p:nvPr/>
        </p:nvSpPr>
        <p:spPr>
          <a:xfrm>
            <a:off x="5205240" y="2187720"/>
            <a:ext cx="370080" cy="36828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92"/>
          <p:cNvSpPr/>
          <p:nvPr/>
        </p:nvSpPr>
        <p:spPr>
          <a:xfrm>
            <a:off x="271764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92"/>
          <p:cNvSpPr/>
          <p:nvPr/>
        </p:nvSpPr>
        <p:spPr>
          <a:xfrm>
            <a:off x="3448080" y="305424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92"/>
          <p:cNvSpPr/>
          <p:nvPr/>
        </p:nvSpPr>
        <p:spPr>
          <a:xfrm>
            <a:off x="2249640" y="4152960"/>
            <a:ext cx="27756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92"/>
          <p:cNvSpPr/>
          <p:nvPr/>
        </p:nvSpPr>
        <p:spPr>
          <a:xfrm>
            <a:off x="442908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92"/>
          <p:cNvSpPr/>
          <p:nvPr/>
        </p:nvSpPr>
        <p:spPr>
          <a:xfrm>
            <a:off x="6462720" y="157176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92"/>
          <p:cNvSpPr/>
          <p:nvPr/>
        </p:nvSpPr>
        <p:spPr>
          <a:xfrm>
            <a:off x="6462720" y="2252520"/>
            <a:ext cx="336600" cy="3384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92"/>
          <p:cNvSpPr/>
          <p:nvPr/>
        </p:nvSpPr>
        <p:spPr>
          <a:xfrm>
            <a:off x="6462720" y="37036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92"/>
          <p:cNvSpPr/>
          <p:nvPr/>
        </p:nvSpPr>
        <p:spPr>
          <a:xfrm>
            <a:off x="6462720" y="551664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92"/>
          <p:cNvSpPr/>
          <p:nvPr/>
        </p:nvSpPr>
        <p:spPr>
          <a:xfrm>
            <a:off x="6462720" y="62452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92"/>
          <p:cNvSpPr/>
          <p:nvPr/>
        </p:nvSpPr>
        <p:spPr>
          <a:xfrm>
            <a:off x="6462720" y="7424640"/>
            <a:ext cx="336600" cy="3366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Группа 44"/>
          <p:cNvGrpSpPr/>
          <p:nvPr/>
        </p:nvGrpSpPr>
        <p:grpSpPr>
          <a:xfrm>
            <a:off x="2411280" y="3900600"/>
            <a:ext cx="1244880" cy="1244520"/>
            <a:chOff x="2411280" y="3900600"/>
            <a:chExt cx="1244880" cy="1244520"/>
          </a:xfrm>
        </p:grpSpPr>
        <p:pic>
          <p:nvPicPr>
            <p:cNvPr id="217" name="Рисунок 45" descr=""/>
            <p:cNvPicPr/>
            <p:nvPr/>
          </p:nvPicPr>
          <p:blipFill>
            <a:blip r:embed="rId3"/>
            <a:stretch/>
          </p:blipFill>
          <p:spPr>
            <a:xfrm>
              <a:off x="2411280" y="3900600"/>
              <a:ext cx="124488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Овал 46"/>
            <p:cNvSpPr/>
            <p:nvPr/>
          </p:nvSpPr>
          <p:spPr>
            <a:xfrm>
              <a:off x="2845440" y="4353480"/>
              <a:ext cx="362520" cy="362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3"/>
          <p:cNvSpPr/>
          <p:nvPr/>
        </p:nvSpPr>
        <p:spPr>
          <a:xfrm>
            <a:off x="768240" y="2763720"/>
            <a:ext cx="11063520" cy="3113280"/>
          </a:xfrm>
          <a:prstGeom prst="rect">
            <a:avLst/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Акционерное общество «Федеральная корпорац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 развитию малого и среднего предприниматель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осква, Славянская площадь, д. 4, стр. 1, тел. +7 495 698 98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ww.corpmsp.ru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1"/>
              </a:rPr>
              <a:t>info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2"/>
              </a:rPr>
              <a:t>@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3"/>
              </a:rPr>
              <a:t>corpmsp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5"/>
              </a:rPr>
              <a:t>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12:41:44Z</dcterms:created>
  <dc:creator>ladmin</dc:creator>
  <dc:description/>
  <dc:language>en-US</dc:language>
  <cp:lastModifiedBy>adm53</cp:lastModifiedBy>
  <cp:lastPrinted>2016-04-15T07:45:17Z</cp:lastPrinted>
  <dcterms:modified xsi:type="dcterms:W3CDTF">2016-05-10T02:58:23Z</dcterms:modified>
  <cp:revision>4316</cp:revision>
  <dc:subject/>
  <dc:title>Title – Times New Roman 26pt Line spacing 26pt</dc:title>
</cp:coreProperties>
</file>