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2F6-3248-4808-B326-CDED5559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6C2C-342A-4139-B0A4-94E01EF9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796-730A-4A8C-80E4-B5465B7B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EF7A-BE65-4495-807A-CD50841F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005B-DB61-4B6B-9C3B-3CC3C3E5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CB1-94C4-45BA-9305-ABEB93C6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9A3-D1D4-4743-9FBC-5A7FC7BA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9B8F-D057-432E-A99F-36EC6FC1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D7B-9E1A-45D3-A965-629D7C2A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A69C-407B-4CA6-A49F-2D8CB9D3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854-9838-4853-A2E3-5478AE81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659-C5ED-4331-A65F-71540BBA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6F51-440C-4C1A-885C-CC4BAB4327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0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4"/>
          <p:cNvSpPr/>
          <p:nvPr/>
        </p:nvSpPr>
        <p:spPr>
          <a:xfrm>
            <a:off x="1042920" y="260280"/>
            <a:ext cx="720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ронология рассмотрения и утверждения проекта решения о бюджете Дальнереченского городского округа на 2026 год и плановый период 2027 и 2028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а основании решения Думы Дальнереченского городского округа от 08.09.2015 №63 «Об утверждении Положения «О бюджетном устройстве, бюджетном процессе в Дальнереченском городском округе»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5"/>
          <p:cNvSpPr/>
          <p:nvPr/>
        </p:nvSpPr>
        <p:spPr>
          <a:xfrm>
            <a:off x="206280" y="2868480"/>
            <a:ext cx="2016360" cy="3889440"/>
          </a:xfrm>
          <a:custGeom>
            <a:avLst/>
            <a:gdLst>
              <a:gd name="textAreaLeft" fmla="*/ 98280 w 2016360"/>
              <a:gd name="textAreaRight" fmla="*/ 1918080 w 2016360"/>
              <a:gd name="textAreaTop" fmla="*/ 98280 h 3889440"/>
              <a:gd name="textAreaBottom" fmla="*/ 3791160 h 3889440"/>
            </a:gdLst>
            <a:ahLst/>
            <a:rect l="textAreaLeft" t="textAreaTop" r="textAreaRight" b="textAreaBottom"/>
            <a:pathLst>
              <a:path w="21600" h="41662">
                <a:moveTo>
                  <a:pt x="3600" y="0"/>
                </a:moveTo>
                <a:arcTo wR="3600" hR="3600" stAng="16200000" swAng="-5400000"/>
                <a:lnTo>
                  <a:pt x="0" y="38062"/>
                </a:lnTo>
                <a:arcTo wR="3600" hR="3600" stAng="10800000" swAng="-5400000"/>
                <a:lnTo>
                  <a:pt x="18000" y="4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сение проекта решения «О бюджете Дальнереченского городского округа на 2026 год и плановый период 2027 и 2028 годов» в представительный орг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Думу ДГО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5.11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6"/>
          <p:cNvSpPr/>
          <p:nvPr/>
        </p:nvSpPr>
        <p:spPr>
          <a:xfrm>
            <a:off x="2484360" y="2859120"/>
            <a:ext cx="1944720" cy="3889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889440"/>
              <a:gd name="textAreaBottom" fmla="*/ 3794760 h 3889440"/>
            </a:gdLst>
            <a:ahLst/>
            <a:rect l="textAreaLeft" t="textAreaTop" r="textAreaRight" b="textAreaBottom"/>
            <a:pathLst>
              <a:path w="21600" h="43196">
                <a:moveTo>
                  <a:pt x="3600" y="0"/>
                </a:moveTo>
                <a:arcTo wR="3600" hR="3600" stAng="16200000" swAng="-5400000"/>
                <a:lnTo>
                  <a:pt x="0" y="39596"/>
                </a:lnTo>
                <a:arcTo wR="3600" hR="3600" stAng="10800000" swAng="-5400000"/>
                <a:lnTo>
                  <a:pt x="18000" y="431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е слушания по рассмотрению проекта решения о  бюджете ДГО на 2026 год и плановый период 2027 и 2028 г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:00 по адресу ул.Победы,13 конференц-з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эт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4757760" y="2852640"/>
            <a:ext cx="2011320" cy="3889440"/>
          </a:xfrm>
          <a:custGeom>
            <a:avLst/>
            <a:gdLst>
              <a:gd name="textAreaLeft" fmla="*/ 97920 w 2011320"/>
              <a:gd name="textAreaRight" fmla="*/ 1913400 w 2011320"/>
              <a:gd name="textAreaTop" fmla="*/ 97920 h 3889440"/>
              <a:gd name="textAreaBottom" fmla="*/ 3791520 h 3889440"/>
            </a:gdLst>
            <a:ahLst/>
            <a:rect l="textAreaLeft" t="textAreaTop" r="textAreaRight" b="textAreaBottom"/>
            <a:pathLst>
              <a:path w="21600" h="41766">
                <a:moveTo>
                  <a:pt x="3600" y="0"/>
                </a:moveTo>
                <a:arcTo wR="3600" hR="3600" stAng="16200000" swAng="-5400000"/>
                <a:lnTo>
                  <a:pt x="0" y="38166"/>
                </a:lnTo>
                <a:arcTo wR="3600" hR="3600" stAng="10800000" swAng="-5400000"/>
                <a:lnTo>
                  <a:pt x="18000" y="41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ние проекта решения Думы ДГО «О бюджете Дальнереченского городского округа на 2026 год и плановый период 2027 и 2028 годов» в первом чт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.12.2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8"/>
          <p:cNvSpPr/>
          <p:nvPr/>
        </p:nvSpPr>
        <p:spPr>
          <a:xfrm>
            <a:off x="6966000" y="2852640"/>
            <a:ext cx="1981080" cy="3889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889440"/>
              <a:gd name="textAreaBottom" fmla="*/ 3792960 h 3889440"/>
            </a:gdLst>
            <a:ahLst/>
            <a:rect l="textAreaLeft" t="textAreaTop" r="textAreaRight" b="textAreaBottom"/>
            <a:pathLst>
              <a:path w="21600" h="42403">
                <a:moveTo>
                  <a:pt x="3600" y="0"/>
                </a:moveTo>
                <a:arcTo wR="3600" hR="3600" stAng="16200000" swAng="-5400000"/>
                <a:lnTo>
                  <a:pt x="0" y="38803"/>
                </a:lnTo>
                <a:arcTo wR="3600" hR="3600" stAng="10800000" swAng="-5400000"/>
                <a:lnTo>
                  <a:pt x="18000" y="424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решения Думы ДГО «О бюджете Дальнереченского городского округа на 2026 год и плановый период 2027 и 2028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здн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2.202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5"/>
          <p:cNvSpPr/>
          <p:nvPr/>
        </p:nvSpPr>
        <p:spPr>
          <a:xfrm flipV="1">
            <a:off x="345600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1"/>
          <p:cNvSpPr/>
          <p:nvPr/>
        </p:nvSpPr>
        <p:spPr>
          <a:xfrm flipV="1">
            <a:off x="57625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2"/>
          <p:cNvSpPr/>
          <p:nvPr/>
        </p:nvSpPr>
        <p:spPr>
          <a:xfrm flipV="1">
            <a:off x="7956720" y="220464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224000" y="2205000"/>
            <a:ext cx="6732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1"/>
          <p:cNvSpPr/>
          <p:nvPr/>
        </p:nvSpPr>
        <p:spPr>
          <a:xfrm>
            <a:off x="4643280" y="1844640"/>
            <a:ext cx="0" cy="36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3"/>
          <p:cNvSpPr/>
          <p:nvPr/>
        </p:nvSpPr>
        <p:spPr>
          <a:xfrm flipV="1">
            <a:off x="1214280" y="2211120"/>
            <a:ext cx="0" cy="64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7T05:07:53Z</dcterms:created>
  <dc:creator>Куранова</dc:creator>
  <dc:description/>
  <dc:language>en-US</dc:language>
  <cp:lastModifiedBy>Ахметжанова НА</cp:lastModifiedBy>
  <cp:lastPrinted>2025-03-21T04:59:27Z</cp:lastPrinted>
  <dcterms:modified xsi:type="dcterms:W3CDTF">2025-11-17T06:52:48Z</dcterms:modified>
  <cp:revision>1231</cp:revision>
  <dc:subject/>
  <dc:title>Слайд 1</dc:title>
</cp:coreProperties>
</file>