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07DF-A834-4373-96E3-2FC9F3C44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49D7-8662-41BD-ABC1-2E0386323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6F88-7889-4D18-8429-B6DD20C79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32CD-0E50-4DDF-B0CD-D567FC7A8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CBA4E-533E-443D-BB81-32F0BD78E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48267-4789-408B-BC6C-184AA0273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4738F-F5DF-465E-9C5A-C6EE17F86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42EBE-886E-4603-8DFC-B52703F8D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F575B-3ECD-4D80-AA41-001B0FE45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C1016-C58D-4E5D-9D33-EC12DC530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E74E7-2F68-4C86-92EF-8F9CBD232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02AE-08BE-4CA9-9611-CA39B3351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E8CF2-501F-4D51-8D5F-2A13FBF4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58945-8CE9-46FA-A37F-5C4B41CA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EA5C8-AE81-4FBB-A5CD-FCC4C0484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FA15D-B755-459A-AAD4-E62AF2FA6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A78E2-CBA5-4337-976C-9B55DFCBF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05FB-1450-4CE1-A270-1FBB60055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EFC5-8E7A-4176-8C2B-2CEB9D8FE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0649-0346-4949-84F4-8A2603DA4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97E8-65BA-48CD-B87E-780328DA7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8585-C852-47CF-80B4-D4712FF56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17C4-8569-497F-81DD-9A06F4656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7D40-C531-4FC0-A450-9F52E76E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87D81-EEC1-4D3C-9685-A1C313E738A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3480"/>
              <a:chOff x="635040" y="534600"/>
              <a:chExt cx="8077320" cy="30348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3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724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0466D-58EA-41BF-8FF6-911BC78F947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825480" y="1577880"/>
            <a:ext cx="5118120" cy="4959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21 ГОД И ПЛАНОВЫЙ ПЕРИОД 2022-2023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12-15T07:40:13Z</dcterms:modified>
  <cp:revision>45</cp:revision>
  <dc:subject/>
  <dc:title>Структура собственных доходов на 2016 год бюджета Дальнереченского городского округа</dc:title>
</cp:coreProperties>
</file>