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105F-6CBA-4EB2-88F8-5B7237943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200-0FD9-45AF-94C6-7BB6C69B29F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917-CDD5-4CF4-9FC2-92179B2E2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50E-1080-42E8-9CB6-1DC1517E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1F7-171A-44A4-BE9D-C69BAEE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617-FDE9-4FAD-BF3B-121CBF2E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9C22-BA11-419D-9544-C4EBC69B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BCC7-DECA-418A-AB2A-3E249F2C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FD14-EE18-4BA4-A7C1-19154DD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7BE3-8808-4A0C-A3C8-1C72931F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8D1C-3631-48AB-9179-0B866E5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F613-BD08-40A8-962E-44D7A5C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1CF1-FFE2-45FB-8488-1B12539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5F8D-B282-4600-97D1-11570A2A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4455-7EA9-4DFC-A265-D9FC189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35A1-D107-4866-8E0E-F1FF912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351-D4C9-49DF-A951-A17C6D72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E074-1C31-4096-9EEF-CE82DF45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46AE-7DC1-4A22-8826-D4157C26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E455-D45D-43ED-9091-0A79C4E3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03AE3-58F5-4978-B42A-335118E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AA63A-94BF-4BEE-9D67-33C92A3B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CDFA-EBE6-4E23-80AB-D045C4EC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3885-74AA-4D93-B6AB-5D4D09E8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306-4ED6-4355-9047-775E001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DD92-F707-4278-87DE-A2FA320A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BF29-A6BA-48F2-BEAC-D4433EE5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F881-47CE-44AD-B919-8913AE8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14AD-2C52-4412-A6A9-730960D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5E35-2690-4268-93B2-650D580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8BD75-9BAE-40C7-A3FE-517C4119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76EC0-668F-429D-A49E-5E804C0E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D1CE-17A2-4825-BB0B-4AC6E7A2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54CB-9F11-43E2-B929-15CA9E9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E59A-239A-429F-AAE4-A319AE2E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AD7-538E-4E5E-9190-3FF17588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1F30-F98A-4A19-9511-974402B9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6A55-689D-4EC7-AC4A-D02E5D88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F249-9987-4457-80C1-4DB05468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33F6-301F-4D23-879B-3BA8869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DC9AB-3D4A-42F6-ABD6-3CFD881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1D32-C864-4FB9-8A58-C667F53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2F71-DE80-4DCC-8AEF-2E5199EA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1ACF-8EE4-4B1A-8786-3272E2C4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43AE-E1C9-4F09-9E28-B2017C6D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A3C58-6465-4068-B462-79C75F37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B6D-2DC7-4514-8107-6F9C38AE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0D020-4E0E-4FE4-9848-BC16729B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6D12-EAE2-488E-B2AC-1369C31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5E3D-A7C4-4009-ACA0-502F359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52673-9ABA-4922-83B8-B8A8E29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25AB-F0A1-4A2E-8708-C4F0A5A7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39A3-0573-4326-90EF-346C755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2130E-C29D-4F10-98BD-2CCF14D5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BD72-FE85-4825-81E7-B0AEB06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6AFC7-D0FD-4622-8B9B-AC2CE7E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F8337-0111-4281-B251-695A7F0C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3DF-A7F3-4F70-B306-2C1FCB3C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6BFE8-E057-4DA8-A24B-A698DF5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4B36-05F0-4676-B9C3-9CC88BCC5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6352-67E7-46CF-BF02-8DF4AD2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AF034-E51C-43FA-BEF0-16EF7644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4D18E-423B-40B1-9306-898ACC83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17790-AB51-4608-8815-14C4817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18EF2-0C2F-4172-9CA0-1A5638A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B102-7A94-4B16-97D6-59F6431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E109-C937-443C-8A50-29FFC65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47B0-8A8E-4F36-BF15-03FEFBA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C756-A7B0-407B-8C9C-441D4C2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D668B-8EA4-4719-8B6A-65BAC67A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95C0-F3C8-4D5F-A133-3053BDBE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B760-7F2B-4D6F-BEF1-EE64ACA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E0C-6786-49F2-BF98-29CB3FA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26B-3BB7-4795-968A-834E58AC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C9D7-9900-4F20-A8E8-70DD4D38350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2078-1349-42A7-87C7-F37FABED961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DF90-954D-4A0B-B0B7-B36DB8EA8F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EB99-CF8A-4478-B32E-3736C5F8F6D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61FF-D319-467F-B091-5E04E1E68E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FA5-3AEB-46B4-AD86-A46FF36FA9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2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2,7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4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4,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5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0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1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39,74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8720" y="469800"/>
            <a:ext cx="7844760" cy="769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1 год – 485,71 млн.руб. (местный бюджет – 174,73 млн.руб., краевой бюджет –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65,08</a:t>
            </a:r>
            <a:r>
              <a:rPr b="1" lang="ru-RU" sz="1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лн.руб., федеральный бюджет – 45,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85,1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1 год – 11,0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28,8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ПЕРЕСЕЛЕНИЕ ГРАЖДАН ИЗ АВАРИЙНОГО ЖИЛИЩНОГО ФОНДА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год – 2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1 год – 18,11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1 год – 4,9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5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6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588960" y="122400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(по состоянию на 01.10.2020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0,7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,1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9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36264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8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 обеспечение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ализацию программ формирования совре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приобретение спортзала, спортинвентаря, ремонт зданий и благоустройство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оснащение детских школ искусств муз.инструмента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ремонт автомоб.дорог за счет дорожного фонда ПК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получение общего образования в муниципальных школах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9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горячи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 на выплату педагогам школ за классное руководств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1 ГОД (824,74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1 ГОДУ (395,15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20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1-2023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ГОДУ (361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 по состоянию на 01.10.20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 к 2020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3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9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5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6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9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8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1 ГОД (839,7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12-15T07:34:40Z</dcterms:modified>
  <cp:revision>260</cp:revision>
  <dc:subject/>
  <dc:title>Структура собственных доходов на 2016 год бюджета Дальнереченского городского округа</dc:title>
</cp:coreProperties>
</file>