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8EF-693D-4CB3-BC0F-641E653F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883-2371-48D5-9AB5-73AEAAFB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AAAC-7222-422C-A97D-87CCF425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BD98-91B1-4CCD-8800-AFE65ABD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150D-43E0-4E83-8896-972D8284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D881-4250-4113-BC3E-A7BB7346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AA8D-271F-4C35-ABF4-DFB08773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435D-1B6E-4C5C-B327-EAC0E753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1BDD-9EC7-4DDA-8F53-D9286CD2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FB4F-38F4-4260-95C2-D6606E6A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3894-48A7-47EE-80BD-7F83E8C8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44E7-08F1-4DF4-AF35-CF447DF6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5C56-3756-4196-A8CB-9099A83D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33E6-5A4B-448C-85C8-FDAC8FE1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8F77-FD5B-4F6F-86DD-835CF9C5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EE0F-30A3-48F8-BC81-70FC284F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E4A4-CD2D-43CF-94E6-B6E27905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FBD-F784-4905-B15F-30C02CDD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F5F-AC07-4CFC-8A56-B25C0900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A8A1-F054-44CA-A39A-05B4D05C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140-2430-4C87-BFB9-7A138F9C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ADF5-D729-4F51-ADD9-51FEED30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8284-22F2-4910-A170-B3D0387F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FE91-7460-4468-B68B-04E8C1C3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1824-157D-4CBB-826A-14CB5C1A3A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1AFC-8C5C-4A89-979B-06D9D133E4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40:13Z</dcterms:modified>
  <cp:revision>45</cp:revision>
  <dc:subject/>
  <dc:title>Структура собственных доходов на 2016 год бюджета Дальнереченского городского округа</dc:title>
</cp:coreProperties>
</file>