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</p:sldIdLst>
  <p:sldSz cx="9180513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sldImg"/>
          </p:nvPr>
        </p:nvSpPr>
        <p:spPr>
          <a:xfrm>
            <a:off x="1141560" y="685440"/>
            <a:ext cx="45748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53C1F-F45E-4853-AA0D-6FBB61AC9DA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29948-7275-4EBD-AE6C-7B1F483A4AB2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488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3ECE5-C5A3-472B-BAA4-19329DA49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58E27-06C3-4C71-B995-A28776615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2F1EB-D719-4EC1-B857-12B20EC9E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ACCF9-8255-4946-8F04-0101FB61A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23BCE-B23B-41CA-9AB9-B6D8DB1CA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E0CA4-3133-45AB-B858-33C01D73E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26514-F2EB-4BFE-ABFC-13C55584F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598E8-1E4D-4625-937A-B96DEB0D1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79B7F-28BA-4A0B-A3AD-EC1D2F9E7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12BBE-95A1-4675-A6D9-FE012789F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EEBDC-3643-480D-9783-86B83F533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B63DF-085D-4E5A-8B5B-93FC3F0CB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FEFE7-ED63-49F1-B616-EA2D455BA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8C75A-9FE1-4A7F-B4B0-23012C0F2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470D5-9885-4E3D-BC41-C74CF25ED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B77F3-9A7A-4CD3-8403-C685946DB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E5DFD-8D19-4C6D-8AE6-10E86EC91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F17D61-A787-4D8C-A265-A00AEA339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27C812-13BB-49F8-AA63-B0DA2F397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38CDBA-8FDC-49B1-A5A2-7926FF5F7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5C4A9D-73BF-49EB-B4D4-37579FB81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3E8EFB-ABD1-4605-B6DD-05137BEDF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60445-5138-413C-BAAE-B700B6053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EA9A0D-12E3-4120-8834-B565A5793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59A19F-B227-4BBD-9B6D-398F3DBF6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44FD0E-F7E6-4432-9907-4E37D2687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16AA8F-E980-4BB6-83E4-AB2838B72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D11146-6856-49F2-ABFA-48825F04F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44504E-B2B8-4289-81FA-B48526DD4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523F75-D01F-42CA-B48E-B803735CA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3B01E0-8748-4F8A-B643-D9DB9F97E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A8819B-BEAA-4FE0-BF46-EE47AF792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29B781-5E94-4AA8-951B-0FE3F923E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1AF2C-1718-4CD2-A85D-E4772E85E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89D7A8-A5CF-4578-800E-6DC0AEF94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937EB9-A99F-4C6E-8FB0-C8E96ED16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44770B-8DF6-4982-951D-22FC0AD34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19FFDA-F33B-4E30-B094-ECA0D8DE2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15AC56-5509-49D4-9988-C6F094C9C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2D3356-7839-4727-A80B-B5E29029D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05A9AB-C13A-4032-A8D7-D826AD59F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CC8262-7BF0-411C-94EB-A744C9D07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17DEBB-4876-49C7-B0F3-032CD4CE4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8720D8-D32D-4BAB-8E80-CECEEF1F8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53E3B-8AE8-4C70-A478-E25131DBD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F6C46F-D696-4C53-80CA-56B0F134F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F0833A-AC33-4FE1-BAFF-BFA9E0177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7596CE-19CF-4F90-AF5E-FA279DE34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FF88D3-3757-4EA7-A89F-1293FA4FA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D579F1-2885-475F-A60D-EDE8F9843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E1075E-0B53-41AF-8958-55235C6C2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5DE95B-EF9C-4B59-9B4E-5F6539421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224051-3772-4E38-9BE6-0C8B91488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8CD443-A906-48D5-B1D0-753623C6C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189E29-AB33-4286-A1E8-B2ECEAEFB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8B10D-7C76-40D6-92CF-197F0DF81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1FB496-47CE-4685-9570-FDEFCF61F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804366-73EC-4CB5-9CB9-FA182BB97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F64C67-E034-4F24-B09F-C81C95A74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0DBC7A-BDC2-419F-9755-C5FE0F1BC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9881DB-5078-44CC-9AA4-FCEB1B0FC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BFE144-0676-4D58-AD7E-4ED816349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D6DA63-4020-4C1B-980F-3BEF6075A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486507-3F9D-4844-BFF1-449D84558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DC61B3-1C6E-4D55-89FC-18E23B0AD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D6F605-6CA1-4730-9769-87B8F3B4B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68325-29BC-4C81-99A3-AFFCF0CE7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E0B5A9-1241-43E4-965F-86AE13137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2BAC02-872C-4E86-8681-175FAFD55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98E9FB-81BF-4AF5-807C-0E50DF937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20512-45EC-4656-B99D-DB7C6B8AD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E0C7B-D0AE-4336-92D6-1FB13FCDE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49280" cy="6876360"/>
            <a:chOff x="0" y="0"/>
            <a:chExt cx="7649280" cy="687636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12280" cy="6876360"/>
              <a:chOff x="0" y="0"/>
              <a:chExt cx="3212280" cy="687636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5000" cy="687636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8640" y="0"/>
                <a:ext cx="2753640" cy="116964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9320" y="1986480"/>
              <a:ext cx="7419960" cy="319680"/>
              <a:chOff x="229320" y="1986480"/>
              <a:chExt cx="7419960" cy="31968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11640" y="1986480"/>
                <a:ext cx="7037640" cy="31788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9320" y="1986480"/>
                <a:ext cx="395280" cy="31968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4240" y="6259680"/>
            <a:ext cx="590400" cy="490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7F74C-587D-4FAE-98DB-BD6B9590F520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152280"/>
            <a:ext cx="8721360" cy="6113160"/>
            <a:chOff x="0" y="152280"/>
            <a:chExt cx="8721360" cy="6113160"/>
          </a:xfrm>
        </p:grpSpPr>
        <p:sp>
          <p:nvSpPr>
            <p:cNvPr id="49" name="AutoShape 3"/>
            <p:cNvSpPr/>
            <p:nvPr/>
          </p:nvSpPr>
          <p:spPr>
            <a:xfrm>
              <a:off x="382320" y="534600"/>
              <a:ext cx="8339040" cy="573084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0" y="152280"/>
              <a:ext cx="8568720" cy="122256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" name="Line 5"/>
            <p:cNvSpPr/>
            <p:nvPr/>
          </p:nvSpPr>
          <p:spPr>
            <a:xfrm>
              <a:off x="0" y="1222200"/>
              <a:ext cx="81097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12360" y="1604880"/>
            <a:ext cx="7954920" cy="4432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458640" y="6265440"/>
            <a:ext cx="2143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3137040" y="626544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6578280" y="6265440"/>
            <a:ext cx="214308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290D0-9865-4ACB-BC9D-C4148932EB1F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2"/>
          <p:cNvGrpSpPr/>
          <p:nvPr/>
        </p:nvGrpSpPr>
        <p:grpSpPr>
          <a:xfrm>
            <a:off x="0" y="0"/>
            <a:ext cx="8721000" cy="4890600"/>
            <a:chOff x="0" y="0"/>
            <a:chExt cx="8721000" cy="4890600"/>
          </a:xfrm>
        </p:grpSpPr>
        <p:sp>
          <p:nvSpPr>
            <p:cNvPr id="94" name="Rectangle 3"/>
            <p:cNvSpPr/>
            <p:nvPr/>
          </p:nvSpPr>
          <p:spPr>
            <a:xfrm>
              <a:off x="0" y="0"/>
              <a:ext cx="61164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95" name="Group 4"/>
            <p:cNvGrpSpPr/>
            <p:nvPr/>
          </p:nvGrpSpPr>
          <p:grpSpPr>
            <a:xfrm>
              <a:off x="382320" y="1421640"/>
              <a:ext cx="8338680" cy="182520"/>
              <a:chOff x="382320" y="1421640"/>
              <a:chExt cx="8338680" cy="182520"/>
            </a:xfrm>
          </p:grpSpPr>
          <p:sp>
            <p:nvSpPr>
              <p:cNvPr id="96" name="Rectangle 5"/>
              <p:cNvSpPr/>
              <p:nvPr/>
            </p:nvSpPr>
            <p:spPr>
              <a:xfrm>
                <a:off x="6885000" y="1421640"/>
                <a:ext cx="18360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7" name="Line 6"/>
              <p:cNvSpPr/>
              <p:nvPr/>
            </p:nvSpPr>
            <p:spPr>
              <a:xfrm>
                <a:off x="382320" y="1497960"/>
                <a:ext cx="833868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917280" y="6269040"/>
            <a:ext cx="198900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3365640" y="6265440"/>
            <a:ext cx="298440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12219-ED12-4E45-BE3E-9CB2BBB05CBA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2"/>
          <p:cNvSpPr/>
          <p:nvPr/>
        </p:nvSpPr>
        <p:spPr>
          <a:xfrm>
            <a:off x="0" y="4890960"/>
            <a:ext cx="61272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" name="Group 2"/>
          <p:cNvGrpSpPr/>
          <p:nvPr/>
        </p:nvGrpSpPr>
        <p:grpSpPr>
          <a:xfrm>
            <a:off x="0" y="0"/>
            <a:ext cx="5890680" cy="6876720"/>
            <a:chOff x="0" y="0"/>
            <a:chExt cx="5890680" cy="6876720"/>
          </a:xfrm>
        </p:grpSpPr>
        <p:sp>
          <p:nvSpPr>
            <p:cNvPr id="141" name="Rectangle 3"/>
            <p:cNvSpPr/>
            <p:nvPr/>
          </p:nvSpPr>
          <p:spPr>
            <a:xfrm>
              <a:off x="0" y="0"/>
              <a:ext cx="4590360" cy="687672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2" name="AutoShape 4"/>
            <p:cNvSpPr/>
            <p:nvPr/>
          </p:nvSpPr>
          <p:spPr>
            <a:xfrm>
              <a:off x="688320" y="993240"/>
              <a:ext cx="5202360" cy="19098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43" name="Group 5"/>
          <p:cNvGrpSpPr/>
          <p:nvPr/>
        </p:nvGrpSpPr>
        <p:grpSpPr>
          <a:xfrm>
            <a:off x="3646440" y="4903920"/>
            <a:ext cx="4895640" cy="318960"/>
            <a:chOff x="3646440" y="4903920"/>
            <a:chExt cx="4895640" cy="318960"/>
          </a:xfrm>
        </p:grpSpPr>
        <p:sp>
          <p:nvSpPr>
            <p:cNvPr id="144" name="AutoShape 6"/>
            <p:cNvSpPr/>
            <p:nvPr/>
          </p:nvSpPr>
          <p:spPr>
            <a:xfrm flipH="1">
              <a:off x="3646440" y="4903920"/>
              <a:ext cx="4644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5" name="AutoShape 7"/>
            <p:cNvSpPr/>
            <p:nvPr/>
          </p:nvSpPr>
          <p:spPr>
            <a:xfrm>
              <a:off x="8281080" y="4903920"/>
              <a:ext cx="26100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dt" idx="10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ftr" idx="11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sldNum" idx="12"/>
          </p:nvPr>
        </p:nvSpPr>
        <p:spPr>
          <a:xfrm>
            <a:off x="76320" y="6265440"/>
            <a:ext cx="590400" cy="4906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08C6A-7891-44A6-9864-2DA810326EBC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7" name="Group 2"/>
          <p:cNvGrpSpPr/>
          <p:nvPr/>
        </p:nvGrpSpPr>
        <p:grpSpPr>
          <a:xfrm>
            <a:off x="0" y="930240"/>
            <a:ext cx="9027720" cy="4506480"/>
            <a:chOff x="0" y="930240"/>
            <a:chExt cx="9027720" cy="4506480"/>
          </a:xfrm>
        </p:grpSpPr>
        <p:sp>
          <p:nvSpPr>
            <p:cNvPr id="188" name="AutoShape 3"/>
            <p:cNvSpPr/>
            <p:nvPr/>
          </p:nvSpPr>
          <p:spPr>
            <a:xfrm>
              <a:off x="688320" y="2075760"/>
              <a:ext cx="7421400" cy="336096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9" name="Rectangle 4"/>
            <p:cNvSpPr/>
            <p:nvPr/>
          </p:nvSpPr>
          <p:spPr>
            <a:xfrm>
              <a:off x="229320" y="930240"/>
              <a:ext cx="7191720" cy="99288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0" name="AutoShape 5"/>
            <p:cNvSpPr/>
            <p:nvPr/>
          </p:nvSpPr>
          <p:spPr>
            <a:xfrm>
              <a:off x="0" y="1388520"/>
              <a:ext cx="9027720" cy="18331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1" name="Line 6"/>
            <p:cNvSpPr/>
            <p:nvPr/>
          </p:nvSpPr>
          <p:spPr>
            <a:xfrm>
              <a:off x="0" y="3069000"/>
              <a:ext cx="833940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12360" y="1604880"/>
            <a:ext cx="7954920" cy="4432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458640" y="6265800"/>
            <a:ext cx="214344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3137040" y="627012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6578280" y="6265800"/>
            <a:ext cx="214308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BEA64-FB26-41B1-992D-7635A169C75D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" name="Group 2"/>
          <p:cNvGrpSpPr/>
          <p:nvPr/>
        </p:nvGrpSpPr>
        <p:grpSpPr>
          <a:xfrm>
            <a:off x="0" y="0"/>
            <a:ext cx="8797320" cy="5958720"/>
            <a:chOff x="0" y="0"/>
            <a:chExt cx="8797320" cy="5958720"/>
          </a:xfrm>
        </p:grpSpPr>
        <p:sp>
          <p:nvSpPr>
            <p:cNvPr id="234" name="Rectangle 3"/>
            <p:cNvSpPr/>
            <p:nvPr/>
          </p:nvSpPr>
          <p:spPr>
            <a:xfrm>
              <a:off x="0" y="0"/>
              <a:ext cx="175932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235" name="Group 4"/>
            <p:cNvGrpSpPr/>
            <p:nvPr/>
          </p:nvGrpSpPr>
          <p:grpSpPr>
            <a:xfrm>
              <a:off x="0" y="3514320"/>
              <a:ext cx="8797320" cy="2444400"/>
              <a:chOff x="0" y="3514320"/>
              <a:chExt cx="8797320" cy="2444400"/>
            </a:xfrm>
          </p:grpSpPr>
          <p:sp>
            <p:nvSpPr>
              <p:cNvPr id="236" name="Rectangle 5"/>
              <p:cNvSpPr/>
              <p:nvPr/>
            </p:nvSpPr>
            <p:spPr>
              <a:xfrm>
                <a:off x="994320" y="3514320"/>
                <a:ext cx="78030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7" name="Rectangle 6"/>
              <p:cNvSpPr/>
              <p:nvPr/>
            </p:nvSpPr>
            <p:spPr>
              <a:xfrm>
                <a:off x="1042200" y="3743280"/>
                <a:ext cx="767844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8" name="Line 7"/>
              <p:cNvSpPr/>
              <p:nvPr/>
            </p:nvSpPr>
            <p:spPr>
              <a:xfrm>
                <a:off x="0" y="4889520"/>
                <a:ext cx="9943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239" name="Group 8"/>
            <p:cNvGrpSpPr/>
            <p:nvPr/>
          </p:nvGrpSpPr>
          <p:grpSpPr>
            <a:xfrm>
              <a:off x="637560" y="534600"/>
              <a:ext cx="8109000" cy="297000"/>
              <a:chOff x="637560" y="534600"/>
              <a:chExt cx="8109000" cy="297000"/>
            </a:xfrm>
          </p:grpSpPr>
          <p:sp>
            <p:nvSpPr>
              <p:cNvPr id="240" name="Rectangle 9"/>
              <p:cNvSpPr/>
              <p:nvPr/>
            </p:nvSpPr>
            <p:spPr>
              <a:xfrm>
                <a:off x="6298560" y="534600"/>
                <a:ext cx="2448000" cy="29700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1" name="Line 10"/>
              <p:cNvSpPr/>
              <p:nvPr/>
            </p:nvSpPr>
            <p:spPr>
              <a:xfrm>
                <a:off x="637560" y="687240"/>
                <a:ext cx="810900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dt" idx="16"/>
          </p:nvPr>
        </p:nvSpPr>
        <p:spPr>
          <a:xfrm>
            <a:off x="915840" y="6269040"/>
            <a:ext cx="191304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 type="ftr" idx="17"/>
          </p:nvPr>
        </p:nvSpPr>
        <p:spPr>
          <a:xfrm>
            <a:off x="3366720" y="6265440"/>
            <a:ext cx="2908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 type="sldNum" idx="18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F7427-8FEB-4724-AA5A-16C02CCBB5B3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526320" y="238680"/>
            <a:ext cx="7799040" cy="5648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ОСНОВНЫЕ ПАРАМЕТРЫ БЮДЖЕТА ДАЛЬНЕРЕЧЕНСКОГО ГОРОДСКОГО ОКРУГА НА 2020 ГОД И ПЛАНОВЫЙ ПЕРИОД 2021-2022 ГОДЫ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6666"/>
                </a:solidFill>
                <a:latin typeface="Times New Roman"/>
              </a:rPr>
              <a:t>(млн.руб)</a:t>
            </a:r>
            <a:endParaRPr b="1" lang="en-US" sz="10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91" name=""/>
          <p:cNvGraphicFramePr/>
          <p:nvPr/>
        </p:nvGraphicFramePr>
        <p:xfrm>
          <a:off x="701640" y="990720"/>
          <a:ext cx="8032680" cy="5591160"/>
        </p:xfrm>
        <a:graphic>
          <a:graphicData uri="http://schemas.openxmlformats.org/drawingml/2006/table">
            <a:tbl>
              <a:tblPr/>
              <a:tblGrid>
                <a:gridCol w="2314440"/>
                <a:gridCol w="1254240"/>
                <a:gridCol w="1190520"/>
                <a:gridCol w="1041480"/>
                <a:gridCol w="1219320"/>
                <a:gridCol w="1012680"/>
              </a:tblGrid>
              <a:tr h="51516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</a:t>
                      </a:r>
                      <a:r>
                        <a:rPr b="1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1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год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1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1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год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1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1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к 2019г (%)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96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8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,7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08,6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91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01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7,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15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: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219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6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10,5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3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2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2,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бственн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1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1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</a:t>
                      </a:r>
                      <a:r>
                        <a:rPr b="1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87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8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97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з ни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47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6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5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6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6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5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6,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0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Рас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1,0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22,6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00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09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8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48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ефицит (профицит)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0,3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9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8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6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21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покрытия дефицита, в том числе: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5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38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статки на счете бюджет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02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аемные средств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300" spc="-1" strike="noStrike">
                <a:solidFill>
                  <a:srgbClr val="006666"/>
                </a:solidFill>
                <a:latin typeface="Arial"/>
              </a:rPr>
              <a:t>СТРУКТУРА РАСХОДОВ БЮДЖЕТА ДАЛЬНЕРЕЧЕНСКОГО ГОРОДСКОГО ОКРУГА НА ФИНАНСОВОЕ ОБЕСПЕЧЕНИЕ МУНИЦИПАЛЬНЫХ ПРОГРАММ И НЕПРОГРАММНЫХ НАПРАВЛЕНИЙ НА 2020 ГОД  </a:t>
            </a:r>
            <a:br>
              <a:rPr sz="1300"/>
            </a:br>
            <a:r>
              <a:rPr b="1" lang="ru-RU" sz="1300" spc="-1" strike="noStrike">
                <a:solidFill>
                  <a:srgbClr val="006666"/>
                </a:solidFill>
                <a:latin typeface="Arial"/>
              </a:rPr>
              <a:t>822,69 млн.руб.</a:t>
            </a:r>
            <a:endParaRPr b="1" lang="en-US" sz="13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10" name="Object 4" descr=""/>
          <p:cNvPicPr/>
          <p:nvPr/>
        </p:nvPicPr>
        <p:blipFill>
          <a:blip r:embed="rId1"/>
          <a:stretch/>
        </p:blipFill>
        <p:spPr>
          <a:xfrm>
            <a:off x="1165320" y="2368440"/>
            <a:ext cx="7076880" cy="37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845640" y="487080"/>
            <a:ext cx="781092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МП «РАЗВИТИЕ ОБРАЗОВАНИЯ ДАЛЬНЕРЕЧЕНСКОГО ГОРОДСКОГО ОКРУГА» 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на 2020 год – 441,25 млн.руб. (местный бюджет – 177,78 млн.руб., 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                                                             краевой бюджет – 263,47 млн.руб.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12" name="Object 4" descr=""/>
          <p:cNvPicPr/>
          <p:nvPr/>
        </p:nvPicPr>
        <p:blipFill>
          <a:blip r:embed="rId1"/>
          <a:stretch/>
        </p:blipFill>
        <p:spPr>
          <a:xfrm>
            <a:off x="660240" y="1438200"/>
            <a:ext cx="8250480" cy="498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РАЗВИТИЕ КУЛЬТУРЫ НА ТЕРРИТОРИИ ДАЛЬНЕРЕЧЕНСКОГО ГОРОДСКОГО ОКРУГА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20 год – 73,23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14" name="Object 4" descr=""/>
          <p:cNvPicPr/>
          <p:nvPr/>
        </p:nvPicPr>
        <p:blipFill>
          <a:blip r:embed="rId1"/>
          <a:stretch/>
        </p:blipFill>
        <p:spPr>
          <a:xfrm>
            <a:off x="915840" y="1282680"/>
            <a:ext cx="7705800" cy="551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600" spc="-1" strike="noStrike">
                <a:solidFill>
                  <a:srgbClr val="006666"/>
                </a:solidFill>
                <a:latin typeface="Times New Roman"/>
              </a:rPr>
              <a:t>МП «ОБЕСПЕЧЕНИЕ ДОСТУПНЫМ ЖИЛЬЁМ И КАЧЕСТВЕННЫМИ УСЛУГАМИ ЖКХ НАСЕЛЕНИЯ ДАЛЬНЕРЕЧЕНСКОГО ГОРОДСКОГО ОКРУГА» </a:t>
            </a:r>
            <a:br>
              <a:rPr sz="1600"/>
            </a:br>
            <a:r>
              <a:rPr b="1" lang="ru-RU" sz="1600" spc="-1" strike="noStrike">
                <a:solidFill>
                  <a:srgbClr val="006666"/>
                </a:solidFill>
                <a:latin typeface="Times New Roman"/>
              </a:rPr>
              <a:t>на 2020 год – 21,31 млн.руб.</a:t>
            </a:r>
            <a:endParaRPr b="1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16" name="Object 3" descr=""/>
          <p:cNvPicPr/>
          <p:nvPr/>
        </p:nvPicPr>
        <p:blipFill>
          <a:blip r:embed="rId1"/>
          <a:stretch/>
        </p:blipFill>
        <p:spPr>
          <a:xfrm>
            <a:off x="1071720" y="20318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898920" y="843840"/>
            <a:ext cx="7607160" cy="954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ОБЕСПЕЧЕНИЕ ЖИЛЬЕМ МОЛОДЫХ СЕМЕЙ ДАЛЬНЕРЕЧЕНСКОГО ГОРОДСКОГО ОКРУГА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20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 год – 3,11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18" name="Object 3" descr=""/>
          <p:cNvPicPr/>
          <p:nvPr/>
        </p:nvPicPr>
        <p:blipFill>
          <a:blip r:embed="rId1"/>
          <a:stretch/>
        </p:blipFill>
        <p:spPr>
          <a:xfrm>
            <a:off x="1062000" y="21542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РАЗВИТИЕ ТРАНСПОРТНОГО КОМПЛЕКСА НА ТЕРРИТОРИИ ДАЛЬНЕРЕЧЕНСКОГО ГОРОДСКОГО ОКРУГА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20 год – 15,4 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0" name="Object 3" descr=""/>
          <p:cNvPicPr/>
          <p:nvPr/>
        </p:nvPicPr>
        <p:blipFill>
          <a:blip r:embed="rId1"/>
          <a:stretch/>
        </p:blipFill>
        <p:spPr>
          <a:xfrm>
            <a:off x="1071720" y="20318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 txBox="1"/>
          <p:nvPr/>
        </p:nvSpPr>
        <p:spPr>
          <a:xfrm>
            <a:off x="898920" y="843840"/>
            <a:ext cx="7607160" cy="954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ЭНЕРГОЭФФЕКТИВНОСТЬ, РАЗВИТИЕ ГАЗОСНАБЖЕНИЯ И ЭНЕРГЕТИКИ В ДАЛЬНЕРЕЧЕНСКОМ ГОРОДСКОМ ОКРУГЕ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20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 год – 29,3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7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2" name="Object 3" descr=""/>
          <p:cNvPicPr/>
          <p:nvPr/>
        </p:nvPicPr>
        <p:blipFill>
          <a:blip r:embed="rId1"/>
          <a:stretch/>
        </p:blipFill>
        <p:spPr>
          <a:xfrm>
            <a:off x="1062000" y="21542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905400" y="823320"/>
            <a:ext cx="7756200" cy="826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ИНФОРМАЦИОННОЕ ОБЩЕСТВО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20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 год – 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1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,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35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4" name="Object 3" descr=""/>
          <p:cNvPicPr/>
          <p:nvPr/>
        </p:nvPicPr>
        <p:blipFill>
          <a:blip r:embed="rId1"/>
          <a:stretch/>
        </p:blipFill>
        <p:spPr>
          <a:xfrm>
            <a:off x="1071720" y="20318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905400" y="823320"/>
            <a:ext cx="7756200" cy="826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500" spc="-1" strike="noStrike">
                <a:solidFill>
                  <a:srgbClr val="006666"/>
                </a:solidFill>
                <a:latin typeface="Times New Roman"/>
              </a:rPr>
              <a:t>МП «ЗАЩИТА НАСЕЛЕНИЯ И ТЕРРИТОРИИ ДАЛЬНЕРЕЧЕНСКОГО ГОРОДСКОГО ОКРУГА ОТ ЧРЕЗВЫЧАЙНЫХ СИТУАЦИЙ ПРИРОДНОГО И ТЕХНОГЕННОГО ХАРАКТЕРА» </a:t>
            </a:r>
            <a:br>
              <a:rPr sz="1500"/>
            </a:br>
            <a:r>
              <a:rPr b="1" lang="ru-RU" sz="1500" spc="-1" strike="noStrike">
                <a:solidFill>
                  <a:srgbClr val="006666"/>
                </a:solidFill>
                <a:latin typeface="Times New Roman"/>
              </a:rPr>
              <a:t>на 20</a:t>
            </a:r>
            <a:r>
              <a:rPr b="1" lang="en-US" sz="1500" spc="-1" strike="noStrike">
                <a:solidFill>
                  <a:srgbClr val="006666"/>
                </a:solidFill>
                <a:latin typeface="Times New Roman"/>
              </a:rPr>
              <a:t>20</a:t>
            </a:r>
            <a:r>
              <a:rPr b="1" lang="ru-RU" sz="1500" spc="-1" strike="noStrike">
                <a:solidFill>
                  <a:srgbClr val="006666"/>
                </a:solidFill>
                <a:latin typeface="Times New Roman"/>
              </a:rPr>
              <a:t> год – 11,26 млн.руб.</a:t>
            </a:r>
            <a:endParaRPr b="1" lang="en-US" sz="15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6" name="Object 3" descr=""/>
          <p:cNvPicPr/>
          <p:nvPr/>
        </p:nvPicPr>
        <p:blipFill>
          <a:blip r:embed="rId1"/>
          <a:stretch/>
        </p:blipFill>
        <p:spPr>
          <a:xfrm>
            <a:off x="1071720" y="20318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 txBox="1"/>
          <p:nvPr/>
        </p:nvSpPr>
        <p:spPr>
          <a:xfrm>
            <a:off x="902880" y="4870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ОТДЕЛЬНЫЕ МЕРОПРИЯТИЯ В РАМКАХ МУНИЦИПАЛЬНЫХ ПРОГРАММ ДАЛЬНЕРЕЧЕНСКОГО ГОРОДСКОГО ОКРУГА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20 год – 31,04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8" name="Object 3" descr=""/>
          <p:cNvPicPr/>
          <p:nvPr/>
        </p:nvPicPr>
        <p:blipFill>
          <a:blip r:embed="rId1"/>
          <a:stretch/>
        </p:blipFill>
        <p:spPr>
          <a:xfrm>
            <a:off x="1231920" y="1938240"/>
            <a:ext cx="7289640" cy="46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 txBox="1"/>
          <p:nvPr/>
        </p:nvSpPr>
        <p:spPr>
          <a:xfrm>
            <a:off x="587160" y="315720"/>
            <a:ext cx="8100000" cy="62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ОСТУПЛЕНИЕ СОБСТВЕННЫХ ДОХОДОВ В МЕСТНЫЙ БЮДЖЕТ ПО ОСНОВНЫМ ИСТОЧНИКАМ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541440" y="990720"/>
          <a:ext cx="8151840" cy="5833800"/>
        </p:xfrm>
        <a:graphic>
          <a:graphicData uri="http://schemas.openxmlformats.org/drawingml/2006/table">
            <a:tbl>
              <a:tblPr/>
              <a:tblGrid>
                <a:gridCol w="2895480"/>
                <a:gridCol w="1152720"/>
                <a:gridCol w="1152360"/>
                <a:gridCol w="1079640"/>
                <a:gridCol w="1008000"/>
                <a:gridCol w="86364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к 20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9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собственных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1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1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</a:t>
                      </a:r>
                      <a:r>
                        <a:rPr b="1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7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3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5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6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доходы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7,5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8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1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7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и на совокупный дох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2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9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5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кциз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имущество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4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емельный нало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0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,7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6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зем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.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имущ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3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Штраф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5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та за негативное воздействие на окружающую среду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2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4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ходы от оказания платных услуг и компенсация затрат государству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1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дажа земельных участк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неналоговые поступлен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2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.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7963200" cy="685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600" spc="-1" strike="noStrike">
                <a:solidFill>
                  <a:srgbClr val="06072e"/>
                </a:solidFill>
                <a:latin typeface="Arial"/>
              </a:rPr>
              <a:t>РАСХОДЫ НА НЕПРОГРАММНЫЕ НАПРАВЛЕНИЯ ДЕЯТЕЛЬНОСТИ, СОСТАВЛЯЮЩИЕ БОЛЕЕ 1%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АСХОДОВ, ВКЛЮЧАЯ РЕЗЕРВНЫЙ ФОНД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0" name="Object 4" descr=""/>
          <p:cNvPicPr/>
          <p:nvPr/>
        </p:nvPicPr>
        <p:blipFill>
          <a:blip r:embed="rId1"/>
          <a:stretch/>
        </p:blipFill>
        <p:spPr>
          <a:xfrm>
            <a:off x="630360" y="1235160"/>
            <a:ext cx="7839000" cy="55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600" spc="-1" strike="noStrike">
                <a:solidFill>
                  <a:srgbClr val="330033"/>
                </a:solidFill>
                <a:latin typeface="Times New Roman"/>
              </a:rPr>
              <a:t>ПРЕДЕЛЬНЫЙ ОБЪЕМ УРОВНЯ ДЕФИЦИТА БЮДЖЕТА ДАЛЬНЕРЕЧЕНСКОГО ГОРОДСКОГО ОКРУГА млн.руб.</a:t>
            </a:r>
            <a:endParaRPr b="0" lang="en-US" sz="16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332" name=""/>
          <p:cNvGraphicFramePr/>
          <p:nvPr/>
        </p:nvGraphicFramePr>
        <p:xfrm>
          <a:off x="903240" y="1638360"/>
          <a:ext cx="8007480" cy="4860720"/>
        </p:xfrm>
        <a:graphic>
          <a:graphicData uri="http://schemas.openxmlformats.org/drawingml/2006/table">
            <a:tbl>
              <a:tblPr/>
              <a:tblGrid>
                <a:gridCol w="2606760"/>
                <a:gridCol w="1295280"/>
                <a:gridCol w="1008000"/>
                <a:gridCol w="1008360"/>
                <a:gridCol w="1008000"/>
                <a:gridCol w="1081080"/>
              </a:tblGrid>
              <a:tr h="41976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именование показател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 год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 год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 к 2019г (%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2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57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ельный объем уровня дефицита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5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03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5,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7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внутреннего финансирования дефицита бюджета: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луч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6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3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2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1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9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гаш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36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5,5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4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3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3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7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зменение остатков средств на счетах по учету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55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7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578160" y="36720"/>
            <a:ext cx="8119440" cy="5076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БЕЗВОЗМЕЗДНЫЕ ПОСТУПЛЕНИЯ ОТ ДРУГИХ БЮДЖЕТОВ БЮДЖЕТНОЙ СИСТЕМЫ РОССИЙСКОЙ ФЕДЕРАЦИИ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414360" y="581040"/>
          <a:ext cx="8567640" cy="6708600"/>
        </p:xfrm>
        <a:graphic>
          <a:graphicData uri="http://schemas.openxmlformats.org/drawingml/2006/table">
            <a:tbl>
              <a:tblPr/>
              <a:tblGrid>
                <a:gridCol w="4027320"/>
                <a:gridCol w="1244880"/>
                <a:gridCol w="950760"/>
                <a:gridCol w="806400"/>
                <a:gridCol w="804960"/>
                <a:gridCol w="73332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к 20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39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, всего в том числе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6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10,5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,7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7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2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бюджетам городских округов на выравнивание бюджетной обеспеченности и по обеспечению сбалансированност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6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бюджетам на реализацию мероприятий по обеспечению жильем молодых семей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3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7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8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9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Субсидии бюджетам на реализацию программ формирования современной городской среды</a:t>
                      </a:r>
                      <a:r>
                        <a:rPr b="1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и благоустройство дворовых территорий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7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Субсидии на строительство детского сада, ремонт зданий и благо-устройство территорий детских садов, капитальный ремонт школ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5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2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сидии бюджетам на реализацию мероприятий и на поддержку государственных программ Российской Федерац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6,9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9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1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субвенций бюджету Дальнереченского городского округа: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3,2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18,8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95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государственных гарантий реализации прав на получение дошкольного образования в детских садах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95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реализацию образования в школах по основным общеобразовательным программа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5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7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7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7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4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обучающихся бесплатным питание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6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7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рганизацию и обеспечение оздоровления и отдыха детей Приморского края (за исключением организации отдыха детей в каникулярное время)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8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социальную поддержку детей-сирот и лиц, принявших на воспитание детей-сирот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7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,4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детей-сирот жилыми помещениям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,7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,7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,7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венции на выполнение переданных полномочий Российской Федерации и субъектов Российской Федерац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,5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9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90320" y="228240"/>
            <a:ext cx="7753320" cy="74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СТРУКТУРА ДОХОДОВ БЮДЖЕТА ДАЛЬНЕРЕЧЕНСКОГО ГОРОДСКОГО ОКРУГА НА 20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 ГОД (808,66млн.руб.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7" name="Object 4" descr=""/>
          <p:cNvPicPr/>
          <p:nvPr/>
        </p:nvPicPr>
        <p:blipFill>
          <a:blip r:embed="rId1"/>
          <a:stretch/>
        </p:blipFill>
        <p:spPr>
          <a:xfrm>
            <a:off x="1127160" y="1235160"/>
            <a:ext cx="7045200" cy="499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СТРУКТУРА СОБСТВЕННЫХ (НАЛОГОВЫХ И НЕНАЛОГОВЫХ) ДОХОДОВ В 20</a:t>
            </a:r>
            <a:r>
              <a:rPr b="1" lang="en-US" sz="1900" spc="-1" strike="noStrike">
                <a:solidFill>
                  <a:srgbClr val="06072e"/>
                </a:solidFill>
                <a:latin typeface="Times New Roman"/>
              </a:rPr>
              <a:t>20</a:t>
            </a: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 ГОДУ (3</a:t>
            </a:r>
            <a:r>
              <a:rPr b="1" lang="en-US" sz="1900" spc="-1" strike="noStrike">
                <a:solidFill>
                  <a:srgbClr val="06072e"/>
                </a:solidFill>
                <a:latin typeface="Times New Roman"/>
              </a:rPr>
              <a:t>98</a:t>
            </a: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,</a:t>
            </a:r>
            <a:r>
              <a:rPr b="1" lang="en-US" sz="1900" spc="-1" strike="noStrike">
                <a:solidFill>
                  <a:srgbClr val="06072e"/>
                </a:solidFill>
                <a:latin typeface="Times New Roman"/>
              </a:rPr>
              <a:t>08</a:t>
            </a: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 млн.руб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9" name="Object 4" descr=""/>
          <p:cNvPicPr/>
          <p:nvPr/>
        </p:nvPicPr>
        <p:blipFill>
          <a:blip r:embed="rId1"/>
          <a:stretch/>
        </p:blipFill>
        <p:spPr>
          <a:xfrm>
            <a:off x="485640" y="1566720"/>
            <a:ext cx="8001000" cy="469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25080" y="198360"/>
            <a:ext cx="8334360" cy="87624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СРАВНЕНИЕ ОБЪЕМОВ МЕЖБЮДЖЕТНЫХ ТРАНСФЕРТОВ 201</a:t>
            </a:r>
            <a:r>
              <a:rPr b="0" lang="en-US" sz="1900" spc="-1" strike="noStrike">
                <a:solidFill>
                  <a:srgbClr val="06072e"/>
                </a:solidFill>
                <a:latin typeface="Times New Roman"/>
              </a:rPr>
              <a:t>9</a:t>
            </a: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 И 20</a:t>
            </a:r>
            <a:r>
              <a:rPr b="0" lang="en-US" sz="1900" spc="-1" strike="noStrike">
                <a:solidFill>
                  <a:srgbClr val="06072e"/>
                </a:solidFill>
                <a:latin typeface="Times New Roman"/>
              </a:rPr>
              <a:t>20</a:t>
            </a: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-202</a:t>
            </a:r>
            <a:r>
              <a:rPr b="0" lang="en-US" sz="1900" spc="-1" strike="noStrike">
                <a:solidFill>
                  <a:srgbClr val="06072e"/>
                </a:solidFill>
                <a:latin typeface="Times New Roman"/>
              </a:rPr>
              <a:t>2</a:t>
            </a: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 ГОДОВ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1" name="Object 4" descr=""/>
          <p:cNvPicPr/>
          <p:nvPr/>
        </p:nvPicPr>
        <p:blipFill>
          <a:blip r:embed="rId1"/>
          <a:stretch/>
        </p:blipFill>
        <p:spPr>
          <a:xfrm>
            <a:off x="325440" y="1138320"/>
            <a:ext cx="4686120" cy="573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02" name=""/>
          <p:cNvGraphicFramePr/>
          <p:nvPr/>
        </p:nvGraphicFramePr>
        <p:xfrm>
          <a:off x="5240160" y="1141560"/>
          <a:ext cx="3470400" cy="5673600"/>
        </p:xfrm>
        <a:graphic>
          <a:graphicData uri="http://schemas.openxmlformats.org/drawingml/2006/table">
            <a:tbl>
              <a:tblPr/>
              <a:tblGrid>
                <a:gridCol w="1590840"/>
                <a:gridCol w="1879560"/>
              </a:tblGrid>
              <a:tr h="784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иды межбюджетных трансфер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пределение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1158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ubvenire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– приходить на помощь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на финансирование «переданных» полномоч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7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я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ubsidium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– поддержка)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на условиях долевого софинансирования расходов других бюдже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</a:tr>
              <a:tr h="1201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Dotatio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– дар, пожертвование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я без определения конкетной цели их использовани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</a:tr>
              <a:tr h="13716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ные межбюджетные трансферты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из бюджетов разного уровня в соответствии с нормативными актами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99880" y="277560"/>
            <a:ext cx="7521480" cy="8571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СТРУКТУРА СУБВЕНЦИЙ НА ВЫПОЛНЕНИЕ ПЕРЕДАВАЕМЫХ ПОЛНОМОЧИЙ В 20</a:t>
            </a: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20</a:t>
            </a: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ГОДУ (318,85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304" name="Object 6" descr=""/>
          <p:cNvPicPr/>
          <p:nvPr/>
        </p:nvPicPr>
        <p:blipFill>
          <a:blip r:embed="rId1"/>
          <a:stretch/>
        </p:blipFill>
        <p:spPr>
          <a:xfrm>
            <a:off x="517680" y="1152360"/>
            <a:ext cx="8459640" cy="535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587160" y="315720"/>
            <a:ext cx="8100000" cy="62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РАСПРЕДЕЛЕНИЕ БЮДЖЕТНЫХ СРЕДСТВ В ВЕДОМСТВЕННОЙ СТРУКТУРЕ РАСХОДОВ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06" name=""/>
          <p:cNvGraphicFramePr/>
          <p:nvPr/>
        </p:nvGraphicFramePr>
        <p:xfrm>
          <a:off x="541440" y="1351080"/>
          <a:ext cx="8440560" cy="5103720"/>
        </p:xfrm>
        <a:graphic>
          <a:graphicData uri="http://schemas.openxmlformats.org/drawingml/2006/table">
            <a:tbl>
              <a:tblPr/>
              <a:tblGrid>
                <a:gridCol w="3400200"/>
                <a:gridCol w="1440000"/>
                <a:gridCol w="936720"/>
                <a:gridCol w="936360"/>
                <a:gridCol w="790560"/>
                <a:gridCol w="936720"/>
              </a:tblGrid>
              <a:tr h="3265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9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 к 2019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2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6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щегосударственные вопрос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9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1,5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1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1,5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7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безопасность и правоохранительная деятельность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7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29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эконом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,7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,9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,9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8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Жилищно-коммунальное хозяйство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9,6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9,5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6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5,0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0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разование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77,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57,8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51,9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51,9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5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Культура и кинематограф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5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9,9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9,2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9,2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6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циальная полит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5,7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7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9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7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8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Физическая культура и спор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8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редства массовой информаци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служивание государственного и муниципального долг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9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0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7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06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Условно утвержденные рас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9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79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РАС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61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22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18,5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31,5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8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.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СТРУКТУРА РАСХОДОВ ДАЛЬНЕРЕЧЕНСКОГО ГОРОДСКОГО ОКРУГА НА 20</a:t>
            </a: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20</a:t>
            </a: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 ГОД (8</a:t>
            </a: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22</a:t>
            </a: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,69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308" name="Object 4" descr=""/>
          <p:cNvPicPr/>
          <p:nvPr/>
        </p:nvPicPr>
        <p:blipFill>
          <a:blip r:embed="rId1"/>
          <a:stretch/>
        </p:blipFill>
        <p:spPr>
          <a:xfrm>
            <a:off x="558720" y="1397160"/>
            <a:ext cx="8178840" cy="51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Куранова</cp:lastModifiedBy>
  <dcterms:modified xsi:type="dcterms:W3CDTF">2020-02-06T00:09:15Z</dcterms:modified>
  <cp:revision>258</cp:revision>
  <dc:subject/>
  <dc:title>Структура собственных доходов на 2016 год бюджета Дальнереченского городского округа</dc:title>
</cp:coreProperties>
</file>