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sldImg"/>
          </p:nvPr>
        </p:nvSpPr>
        <p:spPr>
          <a:xfrm>
            <a:off x="1141560" y="685440"/>
            <a:ext cx="4574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4D5EF-FEDD-43E4-9588-817D1FCFABA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E9C3E-49FF-4808-BB2F-CB82ACE228F1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488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5AAD-D490-4D9B-96E0-D5DE04D12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366B-C107-4AB1-96F7-B862F2417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621F-CC54-4FB6-A11C-E0134E164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7C22-F1E8-4040-A972-A53708FEE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C4101-ACCB-48A7-86C3-A593976D9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164E6-C614-4514-83EF-95A812459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59F89-BFCD-4A40-98F9-586CC37C5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32DA0-D0D8-47E0-B679-1167E86CE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11284-10FC-4388-882A-8562511A8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8D644-EF02-448F-BB66-518403E68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3958D-9F16-4EAB-8F67-125E7DD35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A30A-A5E0-41F9-A8F8-8C32673D1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0ADB3-A00D-448F-8ABB-1DBE84B6D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37A77-CBF1-4E40-A497-BDFF96540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C226C-FDBE-4AB9-B950-F52EE9433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2986A-6DFC-4274-A6C2-586A03C0B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E2C10-B607-46AD-8F15-E42E8288E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71E1CF-B4E2-4DEB-86E4-BDCC09CE9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8A6322-8195-44E3-8AB3-E2A475CB0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EEE651-9201-4C4A-8402-DD30A4744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128891-7816-45B2-B177-3DF78F664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BACF9E-ABD1-4417-8051-47DA05148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DFDE-40D7-4E46-998E-32DBDFD9A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5FEEE4-7043-49F6-8047-3A3AC906E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DAFD85-CD84-4737-B20B-15D08725B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4543DE-895E-476C-951B-45E54FE95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28DD1F-3235-4A8E-A9C6-7460C6ADF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311A51-6802-4E71-93BF-D9F4629DA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5EA428-5208-45BD-AA12-76A1FCBE3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E8AED2-5B6A-42A8-B3F6-84B3EC7BA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AABBBB-A0F6-4998-ACC0-378D7E88A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571823-F977-4369-9116-4C0324310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36340D-0D06-4F9A-B0A7-BECDBB0B7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F712-2F8C-4E12-9387-8DDDA8FBC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3FC511-068E-426C-AA53-8E02F2127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A0B38C-003E-43D5-BC64-4E0B696B7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AB155E-D986-46B2-9EC4-123CF4FDA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373360-978F-4144-AC52-C63EA75FB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87F9CF-64DE-40AD-BE58-262F85D31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81FAF1-15B8-48FA-84D2-791D2E236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725713-71AE-4D8E-8615-E8481175D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8D3743-3436-4303-823A-7AF063EAD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BA2563-526F-4B1F-A27E-956770085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DBA7E2-0255-4313-A816-9CF624A41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7BCC-3442-4123-B2D3-6E5DBDD42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8D79B3-54D8-4624-A943-1F149019A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AE82C7-C1F4-48A7-993B-96098F75F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1C8610-B843-4B00-8D9C-F213BDEAA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DFA983-CE40-455E-84C9-1C828BE9E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167009-9A65-4DE0-9050-39EB6C74B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7C20E3-0E90-4E95-BE6C-2FD9B51C6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CC1391-3316-41A7-A188-1C4C4D6D7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DF37B1-7EAA-4DD0-8466-0B933CCB7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DB9795-D8E8-4BBF-B157-0ABA6D91A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39248E-21FD-48C3-8953-F09EDF9CB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EB52-13A4-409D-AC71-5D41EE072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EEA5A8-0167-48E1-AB33-03C074FAA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3ED1D5-2756-4E98-A4BE-BF49F86C8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7711BC-1C11-41A9-867F-C458ECD23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F86313-DF98-4EFC-9E3E-88D231DCF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12C74D-2BD6-4144-96DD-3FDB78799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FE318C-8CAC-4559-8976-983265873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610CC9-1820-469F-BD82-178B10DBC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7FB035-0E9B-459D-83CB-7F8044375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664A70-F7EB-4583-AFCA-0E06F6DAE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1C7159-C09D-4D49-BFF4-3AE1A1935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08ED-2D6A-4F56-A1CD-9B5050104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40B3C3-4F70-4C4D-AA49-2F309E978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950821-260A-4150-99CE-49E8E6C90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D73AE7-6C92-4E43-96D2-97611E9E3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B4C5-F9F3-41CE-A9A1-6E052F604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223F-8AD6-4F3F-BB68-2651FD42D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8640" y="0"/>
                <a:ext cx="2753640" cy="116964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55278-3F9A-42E8-A1D5-A14CDB231A1C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152280"/>
            <a:ext cx="8721360" cy="6113160"/>
            <a:chOff x="0" y="152280"/>
            <a:chExt cx="8721360" cy="6113160"/>
          </a:xfrm>
        </p:grpSpPr>
        <p:sp>
          <p:nvSpPr>
            <p:cNvPr id="49" name="AutoShape 3"/>
            <p:cNvSpPr/>
            <p:nvPr/>
          </p:nvSpPr>
          <p:spPr>
            <a:xfrm>
              <a:off x="382320" y="534600"/>
              <a:ext cx="8339040" cy="573084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0" y="152280"/>
              <a:ext cx="8568720" cy="122256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" name="Line 5"/>
            <p:cNvSpPr/>
            <p:nvPr/>
          </p:nvSpPr>
          <p:spPr>
            <a:xfrm>
              <a:off x="0" y="1222200"/>
              <a:ext cx="8109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8640" y="6265440"/>
            <a:ext cx="2143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37040" y="626544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78280" y="6265440"/>
            <a:ext cx="214308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8F2BF-C6B4-4770-9756-23307D62671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94" name="Rectangle 3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95" name="Group 4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96" name="Rectangle 5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7" name="Line 6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28342-79F5-49C5-856F-FEFC8F8C259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2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oup 2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141" name="Rectangle 3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AutoShape 4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3" name="Group 5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144" name="AutoShape 6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5" name="AutoShape 7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10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11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12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DFC5B-2C20-4FC5-AC66-34178F18EF02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Group 2"/>
          <p:cNvGrpSpPr/>
          <p:nvPr/>
        </p:nvGrpSpPr>
        <p:grpSpPr>
          <a:xfrm>
            <a:off x="0" y="930240"/>
            <a:ext cx="9027720" cy="4506480"/>
            <a:chOff x="0" y="930240"/>
            <a:chExt cx="9027720" cy="4506480"/>
          </a:xfrm>
        </p:grpSpPr>
        <p:sp>
          <p:nvSpPr>
            <p:cNvPr id="188" name="AutoShape 3"/>
            <p:cNvSpPr/>
            <p:nvPr/>
          </p:nvSpPr>
          <p:spPr>
            <a:xfrm>
              <a:off x="688320" y="2075760"/>
              <a:ext cx="7421400" cy="336096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9" name="Rectangle 4"/>
            <p:cNvSpPr/>
            <p:nvPr/>
          </p:nvSpPr>
          <p:spPr>
            <a:xfrm>
              <a:off x="229320" y="930240"/>
              <a:ext cx="7191720" cy="992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0" name="AutoShape 5"/>
            <p:cNvSpPr/>
            <p:nvPr/>
          </p:nvSpPr>
          <p:spPr>
            <a:xfrm>
              <a:off x="0" y="1388520"/>
              <a:ext cx="9027720" cy="18331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1" name="Line 6"/>
            <p:cNvSpPr/>
            <p:nvPr/>
          </p:nvSpPr>
          <p:spPr>
            <a:xfrm>
              <a:off x="0" y="3069000"/>
              <a:ext cx="83394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458640" y="6265800"/>
            <a:ext cx="214344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3137040" y="627012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6578280" y="6265800"/>
            <a:ext cx="214308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14A3E-565C-4276-8EFC-AC7BF440530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2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234" name="Rectangle 3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35" name="Group 4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236" name="Rectangle 5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7" name="Rectangle 6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8" name="Line 7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39" name="Group 8"/>
            <p:cNvGrpSpPr/>
            <p:nvPr/>
          </p:nvGrpSpPr>
          <p:grpSpPr>
            <a:xfrm>
              <a:off x="637560" y="534600"/>
              <a:ext cx="8109000" cy="298800"/>
              <a:chOff x="637560" y="534600"/>
              <a:chExt cx="8109000" cy="298800"/>
            </a:xfrm>
          </p:grpSpPr>
          <p:sp>
            <p:nvSpPr>
              <p:cNvPr id="240" name="Rectangle 9"/>
              <p:cNvSpPr/>
              <p:nvPr/>
            </p:nvSpPr>
            <p:spPr>
              <a:xfrm>
                <a:off x="6298560" y="534600"/>
                <a:ext cx="2448000" cy="2988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1" name="Line 10"/>
              <p:cNvSpPr/>
              <p:nvPr/>
            </p:nvSpPr>
            <p:spPr>
              <a:xfrm>
                <a:off x="637560" y="68724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6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7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8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C699E-D3F7-4898-909B-A8D504C66B6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526320" y="238680"/>
            <a:ext cx="7799040" cy="5648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РОЕКТ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ОСНОВНЫЕ ПАРАМЕТРЫ БЮДЖЕТА ДАЛЬНЕРЕЧЕНСКОГО ГОРОДСКОГО ОКРУГА НА 2019 ГОД И ПЛАНОВЫЙ ПЕРИОД 2020-2021 ГОДЫ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6666"/>
                </a:solidFill>
                <a:latin typeface="Times New Roman"/>
              </a:rPr>
              <a:t>(млн.руб)</a:t>
            </a:r>
            <a:endParaRPr b="1" lang="en-US" sz="10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701640" y="990720"/>
          <a:ext cx="8032680" cy="5591160"/>
        </p:xfrm>
        <a:graphic>
          <a:graphicData uri="http://schemas.openxmlformats.org/drawingml/2006/table">
            <a:tbl>
              <a:tblPr/>
              <a:tblGrid>
                <a:gridCol w="2314440"/>
                <a:gridCol w="1254240"/>
                <a:gridCol w="1190520"/>
                <a:gridCol w="1041480"/>
                <a:gridCol w="1219320"/>
                <a:gridCol w="1012680"/>
              </a:tblGrid>
              <a:tr h="47448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 состоянию на 01.10.20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к 20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(%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900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7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8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89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88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3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4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42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бственн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8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8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 ни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0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3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5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37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14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Рас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5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8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9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3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0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ефицит (профицит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9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5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98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покрытия дефицита, 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11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статки на счете бюджет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70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аемные средств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300" spc="-1" strike="noStrike">
                <a:solidFill>
                  <a:srgbClr val="006666"/>
                </a:solidFill>
                <a:latin typeface="Arial"/>
              </a:rPr>
              <a:t>ПРОЕКТ</a:t>
            </a:r>
            <a:br>
              <a:rPr sz="1300"/>
            </a:br>
            <a:r>
              <a:rPr b="1" lang="ru-RU" sz="1300" spc="-1" strike="noStrike">
                <a:solidFill>
                  <a:srgbClr val="006666"/>
                </a:solidFill>
                <a:latin typeface="Arial"/>
              </a:rPr>
              <a:t>СТРУКТУРА РАСХОДОВ БЮДЖЕТА ДАЛЬНЕРЕЧЕНСКОГО ГОРОДСКОГО ОКРУГА НА ФИНАНСОВОЕ ОБЕСПЕЧЕНИЕ МУНИЦИПАЛЬНЫХ ПРОГРАММ И НЕПРОГРАММНЫХ НАПРАВЛЕНИЙ НА 2020 ГОД  </a:t>
            </a:r>
            <a:br>
              <a:rPr sz="1300"/>
            </a:br>
            <a:r>
              <a:rPr b="1" lang="ru-RU" sz="1300" spc="-1" strike="noStrike">
                <a:solidFill>
                  <a:srgbClr val="006666"/>
                </a:solidFill>
                <a:latin typeface="Arial"/>
              </a:rPr>
              <a:t>782,15 млн.руб.</a:t>
            </a:r>
            <a:endParaRPr b="1" lang="en-US" sz="13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0" name="Object 4" descr=""/>
          <p:cNvPicPr/>
          <p:nvPr/>
        </p:nvPicPr>
        <p:blipFill>
          <a:blip r:embed="rId1"/>
          <a:stretch/>
        </p:blipFill>
        <p:spPr>
          <a:xfrm>
            <a:off x="1165320" y="2368440"/>
            <a:ext cx="7076880" cy="37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845640" y="487080"/>
            <a:ext cx="781092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МП «РАЗВИТИЕ ОБРАЗОВАНИЯ ДАЛЬНЕРЕЧЕНСКОГО ГОРОДСКОГО ОКРУГА»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на 2020 год – 448,61 млн.руб. (местный бюджет – 178,44 млн.руб.,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                                                             краевой бюджет – 270,17 млн.руб.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2" name="Object 4" descr=""/>
          <p:cNvPicPr/>
          <p:nvPr/>
        </p:nvPicPr>
        <p:blipFill>
          <a:blip r:embed="rId1"/>
          <a:stretch/>
        </p:blipFill>
        <p:spPr>
          <a:xfrm>
            <a:off x="660240" y="1438200"/>
            <a:ext cx="8250480" cy="49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РАЗВИТИЕ КУЛЬТУРЫ НА ТЕРРИТОРИИ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20 год – 73,23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4" name="Object 4" descr=""/>
          <p:cNvPicPr/>
          <p:nvPr/>
        </p:nvPicPr>
        <p:blipFill>
          <a:blip r:embed="rId1"/>
          <a:stretch/>
        </p:blipFill>
        <p:spPr>
          <a:xfrm>
            <a:off x="915840" y="1282680"/>
            <a:ext cx="7705800" cy="551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МП «ОБЕСПЕЧЕНИЕ ДОСТУПНЫМ ЖИЛЬЁМ И КАЧЕСТВЕННЫМИ УСЛУГАМИ ЖКХ НАСЕЛЕНИЯ ДАЛЬНЕРЕЧЕНСКОГО ГОРОДСКОГО ОКРУГА» </a:t>
            </a:r>
            <a:br>
              <a:rPr sz="1600"/>
            </a:b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на 2020 год – 21,77 млн.руб.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6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ОБЕСПЕЧЕНИЕ ЖИЛЬЕМ МОЛОДЫХ СЕМЕЙ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20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год – 1,86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8" name="Object 3" descr=""/>
          <p:cNvPicPr/>
          <p:nvPr/>
        </p:nvPicPr>
        <p:blipFill>
          <a:blip r:embed="rId1"/>
          <a:stretch/>
        </p:blipFill>
        <p:spPr>
          <a:xfrm>
            <a:off x="1062000" y="21542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РАЗВИТИЕ ТРАНСПОРТНОГО КОМПЛЕКСА НА ТЕРРИТОРИИ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20 год – 20,12 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0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ЭНЕРГОЭФФЕКТИВНОСТЬ, РАЗВИТИЕ ГАЗОСНАБЖЕНИЯ И ЭНЕРГЕТИКИ В ДАЛЬНЕРЕЧЕНСКОМ ГОРОДСКОМ ОКРУГЕ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20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год – 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32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,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17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2" name="Object 3" descr=""/>
          <p:cNvPicPr/>
          <p:nvPr/>
        </p:nvPicPr>
        <p:blipFill>
          <a:blip r:embed="rId1"/>
          <a:stretch/>
        </p:blipFill>
        <p:spPr>
          <a:xfrm>
            <a:off x="1062000" y="21542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ИНФОРМАЦИОННОЕ ОБЩЕСТВО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20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год – 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1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,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35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4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МП «ЗАЩИТА НАСЕЛЕНИЯ И ТЕРРИТОРИИ ДАЛЬНЕРЕЧЕНСКОГО ГОРОДСКОГО ОКРУГА ОТ ЧРЕЗВЫЧАЙНЫХ СИТУАЦИЙ ПРИРОДНОГО И ТЕХНОГЕННОГО ХАРАКТЕРА» </a:t>
            </a:r>
            <a:br>
              <a:rPr sz="1500"/>
            </a:b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500" spc="-1" strike="noStrike">
                <a:solidFill>
                  <a:srgbClr val="006666"/>
                </a:solidFill>
                <a:latin typeface="Times New Roman"/>
              </a:rPr>
              <a:t>20</a:t>
            </a: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 год – 11,26 млн.руб.</a:t>
            </a:r>
            <a:endParaRPr b="1" lang="en-US" sz="15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6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902880" y="4870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ОТДЕЛЬНЫЕ МЕРОПРИЯТИЯ В РАМКАХ МУНИЦИПАЛЬНЫХ ПРОГРАММ ДАЛЬНЕРЕЧЕНСКОГО ГОРОДСКОГО ОКРУГА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20 год – 1,66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8" name="Object 3" descr=""/>
          <p:cNvPicPr/>
          <p:nvPr/>
        </p:nvPicPr>
        <p:blipFill>
          <a:blip r:embed="rId1"/>
          <a:stretch/>
        </p:blipFill>
        <p:spPr>
          <a:xfrm>
            <a:off x="1282680" y="1892160"/>
            <a:ext cx="7290000" cy="46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ОСТУПЛЕНИЕ СОБСТВЕННЫХ ДОХОДОВ В МЕСТНЫЙ БЮДЖЕТ ПО ОСНОВНЫМ ИСТОЧНИКАМ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541440" y="990720"/>
          <a:ext cx="8151840" cy="5694120"/>
        </p:xfrm>
        <a:graphic>
          <a:graphicData uri="http://schemas.openxmlformats.org/drawingml/2006/table">
            <a:tbl>
              <a:tblPr/>
              <a:tblGrid>
                <a:gridCol w="2895480"/>
                <a:gridCol w="1297080"/>
                <a:gridCol w="1008000"/>
                <a:gridCol w="1079640"/>
                <a:gridCol w="1008000"/>
                <a:gridCol w="86364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по состоянию на 01.10.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 Бюджет 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к 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обственных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7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3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доходы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4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8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7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и на совокупный дох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кциз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имущество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7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зем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.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Штраф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та за негативное воздействие на окружающую сред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земельных участк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еналоговые поступле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.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7963200" cy="685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06072e"/>
                </a:solidFill>
                <a:latin typeface="Arial"/>
              </a:rPr>
              <a:t>РАСХОДЫ НА НЕПРОГРАММНЫЕ НАПРАВЛЕНИЯ ДЕЯТЕЛЬНОСТИ, СОСТАВЛЯЮЩИЕ БОЛЕЕ 1%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СХОДОВ, ВКЛЮЧАЯ РЕЗЕРВНЫЙ ФОН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0" name="Object 4" descr=""/>
          <p:cNvPicPr/>
          <p:nvPr/>
        </p:nvPicPr>
        <p:blipFill>
          <a:blip r:embed="rId1"/>
          <a:stretch/>
        </p:blipFill>
        <p:spPr>
          <a:xfrm>
            <a:off x="630360" y="1235160"/>
            <a:ext cx="7839000" cy="55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600"/>
            </a:br>
            <a:r>
              <a:rPr b="1" lang="ru-RU" sz="1600" spc="-1" strike="noStrike">
                <a:solidFill>
                  <a:srgbClr val="330033"/>
                </a:solidFill>
                <a:latin typeface="Times New Roman"/>
              </a:rPr>
              <a:t>ПРЕДЕЛЬНЫЙ ОБЪЕМ УРОВНЯ ДЕФИЦИТА БЮДЖЕТА ДАЛЬНЕРЕЧЕНСКОГО ГОРОДСКОГО ОКРУГА млн.руб.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903240" y="1638360"/>
          <a:ext cx="8007480" cy="4860720"/>
        </p:xfrm>
        <a:graphic>
          <a:graphicData uri="http://schemas.openxmlformats.org/drawingml/2006/table">
            <a:tbl>
              <a:tblPr/>
              <a:tblGrid>
                <a:gridCol w="2606760"/>
                <a:gridCol w="1295280"/>
                <a:gridCol w="1008000"/>
                <a:gridCol w="1008360"/>
                <a:gridCol w="1008000"/>
                <a:gridCol w="1081080"/>
              </a:tblGrid>
              <a:tr h="35748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 год (по состоянию на 01.10.2019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 год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 к 2019г (%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2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5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ельный объем уровня дефицита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3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0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5,9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внутреннего финансирования дефицита бюджета: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луч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59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3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гаш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36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5,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4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3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3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3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менение остатков средств на счетах по учету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5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7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414360" y="990720"/>
          <a:ext cx="8567640" cy="6245280"/>
        </p:xfrm>
        <a:graphic>
          <a:graphicData uri="http://schemas.openxmlformats.org/drawingml/2006/table">
            <a:tbl>
              <a:tblPr/>
              <a:tblGrid>
                <a:gridCol w="4027320"/>
                <a:gridCol w="1244880"/>
                <a:gridCol w="950760"/>
                <a:gridCol w="806400"/>
                <a:gridCol w="804960"/>
                <a:gridCol w="7333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по состоянию на 01.10.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к 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7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0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2,7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4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по обеспечению сбалансированност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4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мероприятий по обеспечению жильем молодых семе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бюджетам на реализацию программ формирования совре-менной городской среды</a:t>
                      </a: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и благоустройство дворовых территори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на строительство детского сада, ремонт зданий и благо-устройство территорий детских садов, капитальный ремонт школ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сидии бюджетам на реализацию мероприятий и на поддержку государственных программ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,8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6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убвенций бюджету Дальнереченского городского округа: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2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2,1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государственных гарантий реализации прав на получение дошкольного образования в муниципальных дошкольных образовательных организациях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реализацию дошкольного, общего и дополнительного образования в муниципальных общеобразовательных учреждениях по основным общеобразовательным программа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5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5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5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5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обучающихся бесплатным питание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рганизацию и обеспечение оздоровления и отдыха детей Приморского края (за исключением организации отдыха детей в каникулярное время)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детей-сирот жилыми помещениям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венции на выполнение переданных полномочий Российской Федерации и субъектов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5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90320" y="228240"/>
            <a:ext cx="7753320" cy="74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ПРОЕКТ </a:t>
            </a:r>
            <a:br>
              <a:rPr sz="1900"/>
            </a:b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СТРУКТУРА ДОХОДОВ БЮДЖЕТА ДАЛЬНЕРЕЧЕНСКОГО ГОРОДСКОГО ОКРУГА НА 20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 ГОД (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768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млн.руб.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7" name="Object 4" descr=""/>
          <p:cNvPicPr/>
          <p:nvPr/>
        </p:nvPicPr>
        <p:blipFill>
          <a:blip r:embed="rId1"/>
          <a:stretch/>
        </p:blipFill>
        <p:spPr>
          <a:xfrm>
            <a:off x="1127160" y="1235160"/>
            <a:ext cx="7045200" cy="499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ПРОЕКТ</a:t>
            </a:r>
            <a:br>
              <a:rPr sz="1900"/>
            </a:b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СТРУКТУРА СОБСТВЕННЫХ (НАЛОГОВЫХ И НЕНАЛОГОВЫХ) ДОХОДОВ В 20</a:t>
            </a:r>
            <a:r>
              <a:rPr b="1" lang="en-US" sz="1900" spc="-1" strike="noStrike">
                <a:solidFill>
                  <a:srgbClr val="06072e"/>
                </a:solidFill>
                <a:latin typeface="Times New Roman"/>
              </a:rPr>
              <a:t>20</a:t>
            </a: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 ГОДУ (3</a:t>
            </a:r>
            <a:r>
              <a:rPr b="1" lang="en-US" sz="1900" spc="-1" strike="noStrike">
                <a:solidFill>
                  <a:srgbClr val="06072e"/>
                </a:solidFill>
                <a:latin typeface="Times New Roman"/>
              </a:rPr>
              <a:t>98</a:t>
            </a: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,</a:t>
            </a:r>
            <a:r>
              <a:rPr b="1" lang="en-US" sz="1900" spc="-1" strike="noStrike">
                <a:solidFill>
                  <a:srgbClr val="06072e"/>
                </a:solidFill>
                <a:latin typeface="Times New Roman"/>
              </a:rPr>
              <a:t>08</a:t>
            </a: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 млн.руб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9" name="Object 4" descr=""/>
          <p:cNvPicPr/>
          <p:nvPr/>
        </p:nvPicPr>
        <p:blipFill>
          <a:blip r:embed="rId1"/>
          <a:stretch/>
        </p:blipFill>
        <p:spPr>
          <a:xfrm>
            <a:off x="485640" y="1566720"/>
            <a:ext cx="8001000" cy="469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1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9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 И 20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20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-202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2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 ГОДОВ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1" name="Object 4" descr=""/>
          <p:cNvPicPr/>
          <p:nvPr/>
        </p:nvPicPr>
        <p:blipFill>
          <a:blip r:embed="rId1"/>
          <a:stretch/>
        </p:blipFill>
        <p:spPr>
          <a:xfrm>
            <a:off x="325440" y="1138320"/>
            <a:ext cx="4686120" cy="573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2" name=""/>
          <p:cNvGraphicFramePr/>
          <p:nvPr/>
        </p:nvGraphicFramePr>
        <p:xfrm>
          <a:off x="5240160" y="1141560"/>
          <a:ext cx="3470400" cy="567360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784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8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</a:tr>
              <a:tr h="1201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</a:tr>
              <a:tr h="1371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99880" y="277560"/>
            <a:ext cx="7521480" cy="85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700"/>
            </a:b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20</a:t>
            </a: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ГОДУ (302,14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304" name="Object 6" descr=""/>
          <p:cNvPicPr/>
          <p:nvPr/>
        </p:nvPicPr>
        <p:blipFill>
          <a:blip r:embed="rId1"/>
          <a:stretch/>
        </p:blipFill>
        <p:spPr>
          <a:xfrm>
            <a:off x="517680" y="1152360"/>
            <a:ext cx="8459640" cy="53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РОЕКТ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РАСПРЕДЕЛЕНИЕ БЮДЖЕТНЫХ СРЕДСТВ В ВЕДОМСТВЕННОЙ СТРУКТУРЕ РАСХОДОВ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541440" y="1351080"/>
          <a:ext cx="8440560" cy="5103720"/>
        </p:xfrm>
        <a:graphic>
          <a:graphicData uri="http://schemas.openxmlformats.org/drawingml/2006/table">
            <a:tbl>
              <a:tblPr/>
              <a:tblGrid>
                <a:gridCol w="3400200"/>
                <a:gridCol w="1440000"/>
                <a:gridCol w="936720"/>
                <a:gridCol w="936360"/>
                <a:gridCol w="790560"/>
                <a:gridCol w="9367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9г по состоянию на 01.10.20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 к 2019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7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2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,4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,7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3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2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1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,7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8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0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8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85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5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1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1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Культура и кинематограф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,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,8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6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редства массовой информаци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1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служивание государственного и муниципального долг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Условно утвержденные 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,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57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82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0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9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3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ПРОЕКТ </a:t>
            </a:r>
            <a:br>
              <a:rPr sz="1700"/>
            </a:b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СТРУКТУРА РАСХОДОВ ДАЛЬНЕРЕЧЕНСКОГО ГОРОДСКОГО ОКРУГА НА 20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20</a:t>
            </a: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 ГОД (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782</a:t>
            </a: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,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15</a:t>
            </a: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308" name="Object 4" descr=""/>
          <p:cNvPicPr/>
          <p:nvPr/>
        </p:nvPicPr>
        <p:blipFill>
          <a:blip r:embed="rId1"/>
          <a:stretch/>
        </p:blipFill>
        <p:spPr>
          <a:xfrm>
            <a:off x="558720" y="1397160"/>
            <a:ext cx="8178840" cy="51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19-11-27T00:23:01Z</dcterms:modified>
  <cp:revision>213</cp:revision>
  <dc:subject/>
  <dc:title>Структура собственных доходов на 2016 год бюджета Дальнереченского городского округа</dc:title>
</cp:coreProperties>
</file>