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D01CA-82A6-4CB9-A323-324B39AAE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0FEA7-C768-499D-84D2-E47665743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FBC5A-13A7-462B-8130-302D3161D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9CA6E-D7DC-4754-8173-25778D522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BEB51-68C6-43FF-A0F4-107FB0DD9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EB93F-AA44-4E5C-9774-2821F29EA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C8FAC-6D9B-4D8E-A54A-3A295ED4A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D0BA6-9128-466D-96C3-BF0BEA16A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B465A-75D7-41B7-8666-B1E7BF5BB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2B356-742A-4E57-8877-2A26BA22F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79B0A-5E32-464C-9AD4-FFFFDC926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7AC79-E160-4E4A-96AF-D5A78B93B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D16EF-7920-42FD-8BC7-040014B61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58F28-9CAE-4B0E-970A-E34B5B04B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3F0DE-5CD5-45EC-AA24-B8F59A9B7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6D1E2-CDCE-407C-804B-33663CF1F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55F66-E4C8-434E-837C-99EF652F6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B3687-C5DB-4C44-8352-27CD4B588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C95BA-1B94-4D06-AFEC-6844ADB59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8C5DA-DB86-471F-9C44-BAC29FFE4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AA573-5E9C-4CDB-976A-2ECD83AE6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F9DAD-6088-49AC-BF8E-2D46079C4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4D120-5FB0-4847-90D8-4030DEC1A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C3207-C731-4617-8150-8117F26A3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90600"/>
            <a:chOff x="0" y="0"/>
            <a:chExt cx="8686800" cy="489060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906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21640"/>
              <a:ext cx="8305920" cy="182520"/>
              <a:chOff x="380880" y="142164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2164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796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69040"/>
            <a:ext cx="19810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6544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6544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CDB8C-6C07-4B18-94F2-C1DEAECFAC2C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9096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58720"/>
            <a:chOff x="0" y="0"/>
            <a:chExt cx="8763120" cy="595872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898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14320"/>
              <a:ext cx="8763120" cy="2444400"/>
              <a:chOff x="0" y="3514320"/>
              <a:chExt cx="8763120" cy="244440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14320"/>
                <a:ext cx="7772400" cy="244440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43280"/>
                <a:ext cx="7648560" cy="21438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895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4600"/>
              <a:ext cx="8077320" cy="304920"/>
              <a:chOff x="635040" y="534600"/>
              <a:chExt cx="8077320" cy="30492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4600"/>
                <a:ext cx="2438640" cy="3049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688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69040"/>
            <a:ext cx="190476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65440"/>
            <a:ext cx="289548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6544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50480-2A4C-4623-A107-DDB56666AE7D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7" name="Object 4"/>
          <p:cNvGraphicFramePr/>
          <p:nvPr/>
        </p:nvGraphicFramePr>
        <p:xfrm>
          <a:off x="831960" y="1577880"/>
          <a:ext cx="5105160" cy="495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1960" y="1577880"/>
                    <a:ext cx="5105160" cy="495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86920" y="343080"/>
            <a:ext cx="7417080" cy="100800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ru-RU" sz="1400" spc="-1" strike="noStrike">
                <a:solidFill>
                  <a:srgbClr val="330033"/>
                </a:solidFill>
                <a:latin typeface="Times New Roman"/>
              </a:rPr>
              <a:t>«СТРУКТУРА МУНИЦИПАЛЬНОГО ВНУТРЕННЕГО ДОЛГА НА 2019 ГОД И ПЛАНОВЫЙ ПЕРИОД 2020-2021 ГГ. (млн.руб.)»</a:t>
            </a: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6156360" y="1638360"/>
          <a:ext cx="2232000" cy="3379680"/>
        </p:xfrm>
        <a:graphic>
          <a:graphicData uri="http://schemas.openxmlformats.org/drawingml/2006/table">
            <a:tbl>
              <a:tblPr/>
              <a:tblGrid>
                <a:gridCol w="223200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ды заимствований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79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едиты кредитных организаций в валюте Российской Федераци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юджетные кредиты от других бюджетов бюджетной системы Российской Федерации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004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униципальные гарантии Дальнереченского городского округ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Куранова</cp:lastModifiedBy>
  <dcterms:modified xsi:type="dcterms:W3CDTF">2019-07-30T01:03:46Z</dcterms:modified>
  <cp:revision>46</cp:revision>
  <dc:subject/>
  <dc:title>Структура собственных доходов на 2016 год бюджета Дальнереченского городского округа</dc:title>
</cp:coreProperties>
</file>