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EE45C-B8F7-4E9F-BF44-911B807A3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F9FE3-C9FE-4EDA-B05A-ED6ABD307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956C2-FE57-43BA-8669-76C8BC601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0DDD0-81C1-421F-B9AD-CA2669F10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5FA43-718F-463A-817D-D446FEBCD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68D4E-5303-40F0-89CF-9C188B7CB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7EB1D-5F5C-4FE2-8D86-550289BB5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616CC-AD76-4BB3-A5D6-BFD8E9033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1B25C-445F-4BC8-A5D6-263CBE3A4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705FA-1BDE-47AF-AF02-BFAD3C459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28471-E6A5-4818-9E87-DA4B13C4C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3ACF8-B278-475E-B037-23EA2AE87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C846B-E9A7-440F-B8A3-6965920C0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68B7C-810B-49BD-8611-209DED94C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DB0C9-65E3-4CDA-BCE3-DEAB5F2ED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40074-3C45-49A7-AEA3-20A3AB7DC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28DAA-F024-4399-8B58-44BD5A9EA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29040-4C8E-47E1-80C1-36BE3F289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41B0A-B36D-413B-860E-BB7958654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65B3D-6E10-4BC3-BFC4-E4A3C2617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AF0BB-FF4D-44B2-9E90-4C84AFEC9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8FF55-C964-4688-A322-A6E15C738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87B12-2349-4567-B681-C1323D3BB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F5522-1FD0-4318-9891-1BC83FED2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90600"/>
            <a:chOff x="0" y="0"/>
            <a:chExt cx="8686800" cy="48906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21640"/>
              <a:ext cx="8305920" cy="182520"/>
              <a:chOff x="380880" y="142164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2164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796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69040"/>
            <a:ext cx="19810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6544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6C86C-EAD8-4077-8A63-630F6DB234A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9096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58720"/>
            <a:chOff x="0" y="0"/>
            <a:chExt cx="8763120" cy="595872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14320"/>
              <a:ext cx="8763120" cy="2444400"/>
              <a:chOff x="0" y="3514320"/>
              <a:chExt cx="8763120" cy="244440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14320"/>
                <a:ext cx="77724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43280"/>
                <a:ext cx="764856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895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4600"/>
              <a:ext cx="8077320" cy="304920"/>
              <a:chOff x="635040" y="534600"/>
              <a:chExt cx="8077320" cy="30492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4600"/>
                <a:ext cx="2438640" cy="3049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688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6240"/>
            <a:ext cx="6629400" cy="221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69040"/>
            <a:ext cx="190476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65440"/>
            <a:ext cx="289548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5CE92-E973-4523-8E0C-2F4B94A3D35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6" name=""/>
          <p:cNvGraphicFramePr/>
          <p:nvPr/>
        </p:nvGraphicFramePr>
        <p:xfrm>
          <a:off x="825480" y="1577880"/>
          <a:ext cx="5118120" cy="495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5480" y="1577880"/>
                    <a:ext cx="5118120" cy="495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86920" y="343080"/>
            <a:ext cx="7417080" cy="10080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en-US" sz="1400" spc="-1" strike="noStrike">
                <a:solidFill>
                  <a:srgbClr val="330033"/>
                </a:solidFill>
                <a:latin typeface="Times New Roman"/>
              </a:rPr>
              <a:t>ПРОЕКТ «СТРУКТУРА МУНИЦИПАЛЬНОГО ВНУТРЕННЕГО ДОЛГА НА 2019 ГОД И ПЛАНОВЫЙ ПЕРИОД 2020-2021 ГГ. (млн.руб.)»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6156360" y="1638360"/>
          <a:ext cx="2232000" cy="3379680"/>
        </p:xfrm>
        <a:graphic>
          <a:graphicData uri="http://schemas.openxmlformats.org/drawingml/2006/table">
            <a:tbl>
              <a:tblPr/>
              <a:tblGrid>
                <a:gridCol w="22320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ы заимствований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едиты кредитных организаций в валюте Российской Федераци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юджетные кредиты от других бюджетов бюджетной системы Российской Федерации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00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униципальные гарантии Дальнереченского городского округ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user31</cp:lastModifiedBy>
  <dcterms:modified xsi:type="dcterms:W3CDTF">2018-11-07T05:33:04Z</dcterms:modified>
  <cp:revision>43</cp:revision>
  <dc:subject/>
  <dc:title>Структура собственных доходов на 2016 год бюджета Дальнереченского городского округа</dc:title>
</cp:coreProperties>
</file>