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53BB-5928-4E7E-BFD3-0F2CAAE60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8890-53B4-4B2C-970C-CE659938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17CD-757F-4BBE-8A6E-45F249FAE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8F93-7E5F-48C8-975B-EEFEF286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0E45-20BE-49A2-B46D-7407F5BD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121F-40AF-4839-860B-32A52C09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9EC8-59FC-4164-871E-4F5110F3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4D50-EC74-4646-8BD4-1F34CE16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6583-CAF3-4436-B77F-C2F76BBA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FB00-04A6-4ACE-982A-D3A9671B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C023-DB78-485D-A576-77C0D5D1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B09A-BC09-4A6E-A2B5-8CDE6DD5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F3C1-16D0-43D0-A5CB-139A4B53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13A6-A7B9-4307-A8FF-9134E277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27D7-766D-4B9C-8A89-9EB04DC9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C9D2-049E-427A-87CD-ACCD5BA2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0749-6A10-4B93-8AFC-722ED543B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6820B-1F9E-4E3C-BC38-7B25FEEF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8175B-D9DE-4369-8136-33869659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0C91A-6977-4DC0-A85B-60D398A6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2EC42-CCFF-404D-A611-411BA475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1D55A-3A8C-4EC2-9D9A-E9C3AF27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46D9-34EC-40DA-ACD4-D9F0C200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021E6-046B-4B9A-BD8A-DE162C2C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DBC04-365E-4070-8285-01A8E912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3B23B-326D-4002-BF06-84911080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D4EFF-9A16-4D85-B3E8-4410B2CF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B5BD1-0B1D-4EB5-B292-F065DED5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CB3B8-9B4E-465F-B8E7-DD9C7876E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CCB87-EE3B-4D4F-BC92-6BE1E3C75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62D40-FC6E-49C4-A47B-AA1F694E0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6BBD8-4B36-4A61-B006-17CAE1B8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52E96-5054-4B3C-912D-59EEB84D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C7D2-2D86-483E-A446-BC0C9AAF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A36C9-30CB-49D5-8622-C22F7A90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75967-DF60-4F78-9ED4-733FDDE2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676FB-C1EE-4509-829F-759F3D9F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85D5A-2114-4CDE-BAC3-23CF009F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DFA10-8023-4F1B-BC21-BB7E8152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868B7-CEC6-4DA3-997A-01DC6B9C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91922-7493-4C02-8F69-CC7C2C70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C26D2-7EE4-4FB1-9613-330B9141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BD277-F48E-4154-94F4-332B33683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2E1F2-781B-493B-B267-DDEA6431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5EF9-4BB9-4230-ABC0-BB9238A4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E01F4-A65E-4241-92E4-88D32EF1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4030B-6C50-4DE1-B189-A2EC91B9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EA1F6-D6FF-426D-92A2-3E5D213E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B6392-6F57-408E-A5F8-81D91665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41AB2-3902-45D9-949D-CEEF26F4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18460-67C8-409E-A34C-A1A2BB31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4D6F1-5776-417A-95BA-F3221275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080B6-FFD5-45B6-8D40-61195782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C7C36-83CF-4C38-B9E6-0B520050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573C8-552F-473F-9FE6-82929754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B2D8-2224-4FC5-B0BE-A1D41D2F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C43DF-5426-4379-88F9-F824682F5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CDA3B-7BBF-4AF4-A06C-34F5299D4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6852A-6D95-4A1F-94F0-C0BAC3AD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65DDA-7AB4-43CC-B05C-77FE6FF5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E6CC5-F2D0-4246-9B2B-5D67E977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5282F-F104-4A6A-A180-B6AB90FB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FBDD1-D133-4E5C-BF6D-0C8780B4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2CF5C-B264-424A-A75A-67A13CF6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87532-B0D6-4156-8593-E9DD5A45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8ABB8-BF76-4296-921C-CA62C5E0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C360-3BBF-404F-97DD-3306D08A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D50C6-72A6-4DBC-912D-18CAFE18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84179-70D0-4ACE-BC19-CE93FAF0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47B99-F7E6-4006-86C8-909F5630E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708B-05CE-4786-A50E-1E351CF0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1980-A13B-4CC6-BEDA-6C94BC4B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7ACAA51-ED2F-426E-BE21-25BFD6F122D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5B4863D-481F-4D11-BC33-BD0CC9810E9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FEF27E1-8A8B-4CAB-B55F-95D0BD4AC61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E2DDF88-1036-401B-A2CB-7AA82829CDE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4C18DB8-5183-4364-A447-4B54A04E0BA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77ABE3B-5012-4DAA-A135-600D6E8274E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9.12.2017 № № 106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8 год и плановый период 2019-2020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38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4996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0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8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6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3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4,7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95 млн.руб. (местный бюджет – 118,3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9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13,1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9,5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19800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9608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5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9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502,8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81,29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3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7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4,7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23:55:44Z</dcterms:modified>
  <cp:revision>140</cp:revision>
  <dc:subject/>
  <dc:title>Структура собственных доходов на 2016 год бюджета Дальнереченского городского округа</dc:title>
</cp:coreProperties>
</file>