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13F2-4B96-454C-AD99-6D698E427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8943-42EE-45E6-B953-4DD1C9BF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2E79-EDCC-4063-8B65-8A13E98C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E21D-7405-4D1C-B246-D85912AC4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3FD4-4DAA-4417-AA1A-1C399C86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95AA-489D-4FF5-B72D-A3A41ABE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6677-DE78-4922-BD6D-2D200AF8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3C34-98BB-476A-906F-ED44A224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E23F-1B43-41F6-A236-4E5042B7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F97F-BAFE-492C-AE42-038365BF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F1C4-4E05-494D-B24E-D9E61B3E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60CE-6FE6-4898-B016-2EC3B7FA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564F-20C2-4FFC-AF19-EF1C563A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98DB-337E-4CC3-9F51-F898D9A5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307C-EED2-4EF3-A90F-AB45A384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8E72-D4C0-4772-BA9A-38623270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4039-B53C-4448-AD4A-A5FAA705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E1D5B-595E-4096-8C35-331996FF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9A365-6E2B-4B14-8788-41623FB8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CFB44-B32F-487B-89B0-71DD7B8E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E76C0-81EA-4480-B2DD-D355A216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D6A3C-48BC-4095-994C-1E37FC19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0104-AD6B-46E0-8F12-B42B7580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7025F-E8B8-4062-9C1E-C81A9EDE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19D41-DAE3-4B25-AA9D-1E15189D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837EA-C13E-4C84-A7EB-96E292C6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2F781-3D3F-446F-A9A5-5E58C079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253E2-2D17-46CF-8497-D97F0AC2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EF3EA-7D1B-4196-BA26-B9C98FC1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D6B15-0C9E-435E-9AFF-919D1977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69904-CB2E-44B5-A73F-963CCC962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46253-A820-43E3-82F6-44409032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1EE3C-B60E-4FAE-B51B-9F63D681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D134-8BF8-438A-A3A6-9A4FC17D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C22D8-1538-4C9A-946B-A02CC82B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C360A-22AB-4579-BA85-D7448394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0B953-C317-42C6-8224-E00943BF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517EF-A6F0-4BA4-B073-7C3BAE4F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1C823-22BE-480B-98FB-EB1ED98C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C0883-3EED-4DFF-8BDF-E5665FEB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C80A2-BE14-4964-BAFA-E44DEA6A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5B2B0-377F-46CC-9ABC-EDAE9C0F1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4A248-C8D3-4247-95BA-FF8BB39C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0E7AF-D420-4DFA-B88C-886FE8E2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A561-E001-4032-BA99-86D3EBF7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9C5D6-4B8B-430B-8AF1-A07A221D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002DB-AF8B-44FC-8AD9-F58459CF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778A3-D0C2-46CB-90FC-FACE095C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09AAE-474E-41F7-83C0-E21A496E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A4107-4B13-4746-AEB0-5364551A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792D1-9665-41C6-8EA5-6EB4E531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8E180-7809-44B5-B038-CC3946CC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BF316-14AC-47AE-94C6-B79B8282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A984F-D08B-4F56-B735-130739BB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F2282-2D05-458A-9A7A-571A78B56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6451-DAA7-4806-9889-ACA3B50E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776C3-86C5-43DD-A6B8-FDB3ED574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850ED-1E48-4908-A830-C29AC70E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67287-C7D7-41FE-8434-A7F5DC69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AAAA3-608B-4575-BA47-FE2C7A8C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7F57C-C69A-4382-BE6C-55A2BF26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34569-EC9E-44BA-A5E5-EC91C3B9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FA6E2-8C37-4F3F-A83B-2B9A914D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E19C8-F4B1-4853-BB62-4043164B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EBE15-5A5A-4077-8EE3-CEF6A975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D2019-CCBC-4D73-A87D-04EF0A7D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B61E-B8F9-4213-AB39-BA912089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ADEAC-DEC0-4218-B358-9A5824E1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BBAA7-884A-4F8D-A5D1-226647EC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C8594-BE14-4086-A3ED-0C56C914A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99DD-B6F3-4744-A34E-AF182304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4B4D-861A-494E-8A77-3EF53A1A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DEAE0C2-736D-4761-B786-6029D7516E7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E2F3879-A892-46EB-ABA5-CA8BA607150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891F970-B27A-4A15-B1DF-65B0ED16E2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34B724C-C01D-4E59-8AC7-C88F6A4E26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40C079E-64D5-4EA1-908D-7E98515E65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5CFB538-2C2A-439E-9092-7E6476BEAE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3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11,3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65 млн.руб. (местный бюджет – 118,0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8,03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7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(по состоянию на 01.10.2017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499,3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79,78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0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1,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2:00:30Z</dcterms:modified>
  <cp:revision>107</cp:revision>
  <dc:subject/>
  <dc:title>Структура собственных доходов на 2016 год бюджета Дальнереченского городского округа</dc:title>
</cp:coreProperties>
</file>