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409E-B50D-4EF6-B601-5F20DE93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31D0-2D08-4F0A-976B-6D762033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BB92-2418-4F1E-924B-3CF0E1F39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174F-E8C7-4103-87B1-5364CA262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BF9C-4F5C-4586-8F84-E90A04376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5AAF-E1F5-4F09-BCDA-DC964A73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6867-EC26-40FD-8C35-141FBC3E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529F-94FA-4709-8CE6-DE8FF2E5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1963-9779-432F-A349-BA0A046A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8FE5-4CA1-43FB-AF9B-3F81FE5B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B7B8-3B69-45FF-8570-464C538A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0699-A2BE-452B-8473-67169612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8C42-C12D-47AA-B89C-7CBA006C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4809-B9AB-406F-9C54-C788B45E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C869-951C-4750-8BA5-F67E21EE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6BF6-D224-4A42-A7D1-1EA3308A8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B8E2-8F0D-48B1-9917-BB5CB3493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B12E2-5CA1-4DC1-BEED-45C2828B3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30611-4D01-455D-BB7B-326D2C38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F7875-0536-47F8-BB7C-49D03130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62D75-9E2A-48D9-A77A-1A918B66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0B1F9-CC14-473C-BCA1-84BF10CF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1692-6112-44F1-9BCE-013EF4DC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78DF1-65C0-40D0-8CF4-6E973713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18406-4199-40CE-9678-272AD680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81418-25E6-4E6C-97A9-705CA97B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B2F8E-A2DA-41A7-B5BF-2922A208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E97B7-3BA2-49F7-9BD2-55F28ACB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8EDD3-8296-4E53-A85A-E5B4BCCF5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39F3A-1B62-4AB3-93FF-0497D6D8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1890D-AD85-4FF8-B3D4-287B68E0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D3A01-1E4C-4CAD-BA43-E018B0CF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50761-4CEF-4809-A267-36EA9881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909D-5D6C-428B-B3C9-130DE3D7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EA74D-8C50-498A-9D42-6F526C8E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1B9B1-183A-4103-A7F2-6E1E1E9E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C1422-C086-4307-9224-EF161963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300ED-059F-474F-BBEB-00AB559E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E4E5A-BC4A-488B-A746-0215623D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84C33-B6F6-499B-9D8E-AEABBEC3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3D8D9-4078-4C97-869F-54F13689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BE54C-D93C-405D-8311-2FB24A0B2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13222-1CE9-4AA0-B04D-7D0B3889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0B85-65BC-4B8A-8FC2-81964498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FE8D-27F3-4154-8749-33BAA359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CC8F-A18B-4A87-B1AB-BB3C5DDD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0BFB-A7CC-4AE7-9976-E1312362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2A54-D8F5-445E-BCE6-718EBF7C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5EA2-E356-44D4-A3E6-E2A019E860C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C445-36BB-453A-96C2-544179F8835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374C-72A8-4500-8C05-607581F1DD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AF38-A1B0-4ADF-8D73-0CC550EB4B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6.12.2016 № № 88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7 год и плановый период 2018-2019 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752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4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3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2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2,8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35,65 млн.руб. (местный бюджет – 126,93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8,72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0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– 8,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9,0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6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</a:t>
            </a:r>
            <a:br>
              <a:rPr sz="1600"/>
            </a:b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ДЕЯТЕЛЬНОСТИ В 2017 ГОДУ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(млн.руб.)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5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351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6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7531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9,33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,32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30000" y="270000"/>
            <a:ext cx="81025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8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277920"/>
            <a:ext cx="77310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2,8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01-26T07:57:55Z</dcterms:modified>
  <cp:revision>114</cp:revision>
  <dc:subject/>
  <dc:title>Структура собственных доходов на 2016 год бюджета Дальнереченского городского округа</dc:title>
</cp:coreProperties>
</file>