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8B34-9F5A-4E40-867F-1AF526510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D5DB-0550-4CE2-B093-DCBA104D8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90F7-C5BE-4CD0-83A4-8E9E38DA3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46E5-EBD2-46DA-8ED0-05648DA20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EC5AA-818D-46A4-90D8-83892B056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0601F-44F5-451D-B9BC-FA369CD36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A4BA1-C3E9-44B8-8F1F-B17B82273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784AB-A8E9-40C9-B57E-D9952C6F2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F59D3-49BD-4650-B901-3A1009AA3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83BA8-CD63-41E8-A131-3F9783190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B3248-48E5-425B-B499-7BD733724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CC52-263E-4D30-8171-B0C077A27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D132E-7340-4661-A34C-26A6E7C21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C86C8-4E61-4456-8D70-40BE7A975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550BC-D05C-409D-9A6E-DCB96323F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92C46-53F8-4DF2-BF8C-FA7E6CC16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94C4F-1B89-4A99-BA62-4E3E42993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4CC5-52D3-44C2-9646-F867B7660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195C-8E43-4FF1-BDD5-5212C7280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03EB-8B37-4A33-B571-697BB9645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AC25-A989-4202-8306-B508F778C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1395-D6F6-4E91-B00B-3613B46D8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3CF2-127A-4D02-95C4-F20EFDBA6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AE22-0CF2-4AFD-89E4-F9BE01A2E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90600"/>
            <a:chOff x="0" y="0"/>
            <a:chExt cx="8686800" cy="48906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21640"/>
              <a:ext cx="8305920" cy="182520"/>
              <a:chOff x="380880" y="142164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2164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796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69040"/>
            <a:ext cx="1981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6544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63009-EF26-49CD-BEF7-5602D244F6F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9096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58720"/>
            <a:chOff x="0" y="0"/>
            <a:chExt cx="8763120" cy="595872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14320"/>
              <a:ext cx="8763120" cy="2444400"/>
              <a:chOff x="0" y="3514320"/>
              <a:chExt cx="8763120" cy="244440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14320"/>
                <a:ext cx="77724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43280"/>
                <a:ext cx="764856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895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4600"/>
              <a:ext cx="8077320" cy="304920"/>
              <a:chOff x="635040" y="534600"/>
              <a:chExt cx="8077320" cy="30492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4600"/>
                <a:ext cx="243864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688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6240"/>
            <a:ext cx="6629400" cy="22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69040"/>
            <a:ext cx="1904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65440"/>
            <a:ext cx="2895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42F32-F182-408E-A075-577C1E86E38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1332000" y="1638360"/>
          <a:ext cx="4214880" cy="488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1638360"/>
                    <a:ext cx="4214880" cy="48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15640" y="342720"/>
            <a:ext cx="7488360" cy="11509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«СТРУКТУРА МУНИЦИПАЛЬНОГО ВНУТРЕННЕГО ДОЛГА НА 2017 ГОД И ПЛАНОВЫЙ ПЕРИОД 2018-2019 ГГ. (млн.руб.)»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156360" y="1638360"/>
          <a:ext cx="2232000" cy="33796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заимствований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гарантии Дальнереченского городского о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user31</cp:lastModifiedBy>
  <dcterms:modified xsi:type="dcterms:W3CDTF">2016-12-23T00:21:30Z</dcterms:modified>
  <cp:revision>39</cp:revision>
  <dc:subject/>
  <dc:title>Структура собственных доходов на 2016 год бюджета Дальнереченского городского округа</dc:title>
</cp:coreProperties>
</file>