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C904-FA7E-46B2-ABF7-DC32B112B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4E38-96DD-4F9D-A667-24E354ED4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9A1C-83B4-474A-8C0A-CCD891039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C639-B8BD-4903-9C26-AA5962744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91A1F-D315-4BFE-963B-FEC6FF91F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7D499-574E-4223-B15D-FF30F3892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B36B8-CCA8-455D-82CF-2E7948AD8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27CB8-4F1D-4D37-84FC-FCC698D6E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949A5-03B6-419F-AA7A-53EC017EA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71E1A-238A-49B5-81A5-236DC1640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9ADEF-4D40-41CF-B276-413EFBF9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8B95-02B7-4965-85E5-44EC32E78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9923C-0593-4152-BB71-1F0773AF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43B36-7CE5-44AE-9F0B-95965B5F9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5AFD8-23E7-435E-B062-CA8DD07DC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6D55E-DB5D-4338-9CA1-425481C52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C6995-C4DA-4131-A1AE-F612DF3ED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E109-A040-4E41-A774-B4FF1A32E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DCD1-BC71-450C-B1AE-EC04E9328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5905-B1A3-4011-AB5D-60262AC6B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CFA7-5E19-483C-87DE-35E5EA5C6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0C38-B23B-41CD-967D-FCD59F8C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FAC3-C59A-4117-BCC3-EEE06FBB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030A-1599-4B2D-B27D-28A31B30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03F16-C21C-4118-94C5-63DA8F2978B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4F246-A9EA-467D-A7C8-44A3140EF27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1332000" y="1638360"/>
          <a:ext cx="4214880" cy="488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638360"/>
                    <a:ext cx="4214880" cy="48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15640" y="342720"/>
            <a:ext cx="7488360" cy="1150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17 ГОД И ПЛАНОВЫЙ ПЕРИОД 2018-2019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6-12-23T00:21:30Z</dcterms:modified>
  <cp:revision>39</cp:revision>
  <dc:subject/>
  <dc:title>Структура собственных доходов на 2016 год бюджета Дальнереченского городского округа</dc:title>
</cp:coreProperties>
</file>