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7BB-E45D-432D-ACAD-E6B06968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CFEB-AD15-44FB-91BF-79EE201C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9799-1593-4E0C-B4B8-184F9ACE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D18-5B87-4556-94C7-0B377133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74A1-5C2C-4106-AF27-4B254C1B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A216-9A81-4238-B30F-9F5A4A1A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D616-E7C3-4FBE-8A27-67CF9301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40DB-5229-4527-9772-113FDC1B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1AF7-B3D0-4275-A932-D393F93A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7124-FEEB-4CDE-8975-B8A78E7D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A85E-6B20-4493-9EEF-F84FAA78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53D-32D5-4D61-85D9-31A789A3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D1AA-7BDF-4792-8FDE-D023E116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FCE8-14FE-48E8-9C08-0EC70E90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63C8-1FE6-4ACE-B168-9840F74B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A876-9D24-4D94-8EF5-75234480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9BF7-745D-430D-B37B-D65A7566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F5AF-6972-42C5-BF32-7957017F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B6B-BCF6-4062-89C7-5F3C8FDA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8AE-5A5E-45D3-830E-FB6B033F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1F37-90D2-46A7-8CEC-5F56A64B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DFF4-3CC8-46D5-9C2C-C7B609D6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B69-B1EE-4E5F-9559-05DD97CC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DBA-B642-4D1E-9FA4-6ABEBA39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CE8D-DEA6-4B5E-A886-33690189C6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9B09-0CE9-43EB-BEEA-A86624596C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44480"/>
          <a:ext cx="42148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44480"/>
                    <a:ext cx="42148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0-31T06:13:30Z</dcterms:modified>
  <cp:revision>38</cp:revision>
  <dc:subject/>
  <dc:title>Структура собственных доходов на 2016 год бюджета Дальнереченского городского округа</dc:title>
</cp:coreProperties>
</file>