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7BAF-895E-4040-81D5-D591018F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433-00AF-44AC-9EAB-1A7DD6C5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9C94-8174-43C2-BDF0-37737928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224-2AD9-4DB8-BF75-798D84E1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3D7-B073-47D9-A2DC-7850826D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82D-85AD-41AA-9799-E020AA8B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A4A-F04E-4840-8F53-F01AD677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AA68-8826-4930-977E-73930074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9DC-1CAA-44C9-AA0E-686AE871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BC0-26FD-44DC-8E34-04484002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60FE-5999-458C-9EF2-F5511EA4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5E46-8734-4BBE-BC69-D594E6DD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0979-258D-44D3-849E-89A9ED8BBE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oup 7" descr=""/>
          <p:cNvPicPr/>
          <p:nvPr/>
        </p:nvPicPr>
        <p:blipFill>
          <a:blip r:embed="rId1"/>
          <a:stretch/>
        </p:blipFill>
        <p:spPr>
          <a:xfrm>
            <a:off x="-115920" y="-55440"/>
            <a:ext cx="1305000" cy="1463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828720" y="449280"/>
            <a:ext cx="62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ительные меры социальной поддержки семей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щих дет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11" descr=""/>
          <p:cNvPicPr/>
          <p:nvPr/>
        </p:nvPicPr>
        <p:blipFill>
          <a:blip r:embed="rId2"/>
          <a:stretch/>
        </p:blipFill>
        <p:spPr>
          <a:xfrm>
            <a:off x="6581880" y="111240"/>
            <a:ext cx="1787400" cy="1185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4"/>
          <p:cNvSpPr/>
          <p:nvPr/>
        </p:nvSpPr>
        <p:spPr>
          <a:xfrm>
            <a:off x="1422360" y="6381720"/>
            <a:ext cx="68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Телефон «горячей линии» Отделения ПФР по Приморскому краю: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(423)249-86-0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47680" y="1203480"/>
            <a:ext cx="8645400" cy="524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23:45Z</dcterms:created>
  <dc:creator>000210</dc:creator>
  <dc:description/>
  <dc:language>en-US</dc:language>
  <cp:lastModifiedBy>Вовченко Александра Александровна</cp:lastModifiedBy>
  <cp:lastPrinted>2020-05-13T22:14:31Z</cp:lastPrinted>
  <dcterms:modified xsi:type="dcterms:W3CDTF">2020-05-13T23:49:08Z</dcterms:modified>
  <cp:revision>2313</cp:revision>
  <dc:subject/>
  <dc:title>Слайд 1</dc:title>
</cp:coreProperties>
</file>